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68F-9885-4992-9EB3-418C9B03C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81F3-B8BD-40FE-A007-64FA9E6B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9593-FF1F-4921-AF92-AC1703D8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5282-2E54-4FFC-A61C-0CB80E30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5D2-3C38-4A62-9CD2-830F0B30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2BF0-6F22-4FD3-8519-746D0D29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90F-E0AB-4DA4-B0D4-4D518F83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C66-3A87-464D-9BDF-4347FFD7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C0A-ABE2-4F22-901E-26E6A217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FA1-409D-4A87-8072-9544EC15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5ED-0A00-48E5-A3CC-9E38C8F5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0E2-20EF-4FF9-9C6C-2170E85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843-FF82-4728-A31C-74F8ECE3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AF5-7936-42B5-9B04-2DF1B01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8FB-5F4D-43FB-BCE2-FF09EEB4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EB6-CE80-4EEF-AFF8-41B3771A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A4A-36DE-4B09-8D71-CB8AF0F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1DA-14BA-42B4-AE55-D61449A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07C-F251-4306-A918-50CA5FB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5865-DFEC-4038-9E29-B0CD2935B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harge It 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541F-4621-4275-9005-9D76B202135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ederalreserve.gov/creditcardcalculator/" TargetMode="External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76320" y="8380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g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28600" y="218124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R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and Maria need another car. They have some money to put down on a new car, but they still need to borrow about $10,000 to purchas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Buying a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39625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they do not (or cannot) pay back the loan, what might the lender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a revolving line of credit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dollar li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nimum monthly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.g., $15 for a $600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harge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you to pay the entire balance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eb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ied to a checking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Credit card"/>
          <p:cNvPicPr/>
          <p:nvPr/>
        </p:nvPicPr>
        <p:blipFill>
          <a:blip r:embed="rId1"/>
          <a:stretch/>
        </p:blipFill>
        <p:spPr>
          <a:xfrm>
            <a:off x="670572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a Credit Ca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C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red value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d and unsecured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ld and platinum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war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disclosures before you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at fees/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consumer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precautions to protect yourself from fraud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highlight rates, fees, other key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mple interest rate section of disclosu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uth in Lending Disclosure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shopping for credit cards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ercentage rates (APR)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enalty APR, and when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es, such as any annual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race period, if there is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comput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622920" y="2057400"/>
            <a:ext cx="1757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Rate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 on a yearly basis (interest + fe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a low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annual fees and other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long the introductory rates will last and whether the new rate will be fixed or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ing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Bal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on money you owe for charges you made in the past (existing balance) generally cannot be increased unles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told about the increase when you open the account and the initial rate lasts at le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re is a change in an index-based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n’t satisfy a “workout arrangemen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 not make the required minimum payment within 60 days of due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ew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Trans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that applies to new transactions generally cannot increase for a year from the date the card was issue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cept if you have a variable rate card and the index increases or promotional rate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or must notify you 45 day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cancel the card before the changes take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nalty A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enalty AP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a permanent rate increase if you do not pay your credit card bill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be double the regular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details in Truth in Lending disclo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505320" y="403848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t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ver-the-limi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-limit increas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ign transac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ollar sign"/>
          <p:cNvPicPr/>
          <p:nvPr/>
        </p:nvPicPr>
        <p:blipFill>
          <a:blip r:embed="rId1"/>
          <a:stretch/>
        </p:blipFill>
        <p:spPr>
          <a:xfrm>
            <a:off x="5410080" y="1371600"/>
            <a:ext cx="2202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oid finance charges by paying your balance in full, or making the minimum payment, on or before the due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race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age Daily Balance is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mon method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x APR x Days in Billing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ys in Calenda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  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alance Computation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stomer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via telephone and Internet may allow you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ss account information, such as balance and recent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bill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pdate personal information such as your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Key I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e awar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ws that protect you against billing mistakes and unauthorized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dditional protections that credit card companies may provide (e.g., an extended warranty period on certain purch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time to fully understand the costs, benefits, and true coverage of “credit protection” or “debt suspension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maximum amount of credit the credit card company grants you based on factors, such as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5742000" cy="109872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5907240" cy="11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157560" cy="1098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re to Apply for a Credit C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Where do you think you would go to apply for a credit ca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“opt out” of receiving mailed credit car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the phone number on the offers of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ell phone"/>
          <p:cNvPicPr/>
          <p:nvPr/>
        </p:nvPicPr>
        <p:blipFill>
          <a:blip r:embed="rId2"/>
          <a:stretch/>
        </p:blipFill>
        <p:spPr>
          <a:xfrm>
            <a:off x="533520" y="4038480"/>
            <a:ext cx="2379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cred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your own assets, income, ability to pay, and credit hi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responsible for paying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Joint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assets, income, ability to pay, and credit history of both people who a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th applicants are responsible for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vs. Joint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Consumer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under age 21</a:t>
            </a: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 mu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Have a co-signer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Prove the ability to make th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If you are a parent, be prepared for a request to co-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vide accurate information on a credit appl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Giving false information is a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plicat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ty:</a:t>
            </a:r>
            <a:r>
              <a:rPr b="1" lang="en-U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ollater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e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credit is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factors creditors look for when making credit deci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purpose of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ty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have you been in your job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make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your monthly expens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have in your checking and savings account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own a hous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investments or other assets (e.g., a car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harac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had credit in the past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accounts do you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e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d for bankrupt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any outstanding judg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property repossessed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closed up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de late pay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6705720" y="2514600"/>
            <a:ext cx="1876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assets to secure the loan beyond your capacity to pay it off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e have discussed what information creditors look for in order to decide whether to give you a credit card, but where do you think they might find this infor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Creditors Loo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redit report tells credit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you 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any collection actions, bankruptcies, judgments, etc. against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report inquiries have been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944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et Cathy. S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s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ever had a credit card or a lo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o credit history except for an inquiry by her landlord when she rented her apartment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will a creditor decide if Cathy is good credit ri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375240" y="1828800"/>
            <a:ext cx="20829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No History Is No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ing Ag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i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ree Annual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6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wo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Fair Isaac (FICO)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Sc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if you are ready to apply for a cred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credit card is best suited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how to use a credit card responsib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steps to take when a credit card is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Request Is Deni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nial notice, or adverse action notice, lists reasons for credit den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ard companies must give you reasons why your credit was den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the credit bureau within 60 days of receiving the denial for a free copy of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any inaccuracy in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Statement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360" y="118908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367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ederalreserve.gov/creditcardcalculator/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ounse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Interest Rate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tions or Account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harge Cal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tatement and envelope"/>
          <p:cNvPicPr/>
          <p:nvPr/>
        </p:nvPicPr>
        <p:blipFill>
          <a:blip r:embed="rId2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2400" y="12952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credit card receipts to compare with monthly statements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eck your monthly statement fo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mistakes right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Good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9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ich of the following is a good reason to pay more than the minimum payment due on your credit card b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look good on your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will be able to spend it again, in higher amou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 credit card company will increase your limit fa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pay if off quicker and save on interest char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09480" y="1143000"/>
          <a:ext cx="7925040" cy="3962520"/>
        </p:xfrm>
        <a:graphic>
          <a:graphicData uri="http://schemas.openxmlformats.org/drawingml/2006/table">
            <a:tbl>
              <a:tblPr/>
              <a:tblGrid>
                <a:gridCol w="1600200"/>
                <a:gridCol w="1121040"/>
                <a:gridCol w="1241280"/>
                <a:gridCol w="1320840"/>
                <a:gridCol w="1320840"/>
                <a:gridCol w="132084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ni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 of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ts of Exceeding the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ginal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thly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of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 Payment (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Houston, We Might Have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ether the people are using their cards responsi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what could happen if each person continues to use their credit card as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Card is Lost or Stol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fy your credit card company immediate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276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characteristic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ards that are similar to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different type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shop for the best credit card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apply for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a credit card responsi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pay your credit card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credit c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Cred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276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sk a financial professional what “credit” is, which of these would this person choose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tion for a job well-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ng, scrolling text at the end of a mo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bility to borrow mone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reement to borrow money on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 or Guarante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curity, or asset, you pledge to the lender in case you cannot repay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Def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mportance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do you think credit is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be useful in times of emer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more convenient and safer than carrying large amounts of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a large purchase, such as a car or house, and pay for i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affect your ability to obtain a job, buy or rent a house, or obt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9440" y="12193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ing good credit mea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ke your loan payments o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be easier to borrow money in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problems using credit responsibly, it will be harder to borrow money in the fu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6477120" y="1600200"/>
            <a:ext cx="1828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ood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37:42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