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wmf" ContentType="image/x-wmf"/>
  <Override PartName="/ppt/media/image9.jpeg" ContentType="image/jpeg"/>
  <Override PartName="/ppt/media/image8.wmf" ContentType="image/x-wmf"/>
  <Override PartName="/ppt/media/image7.wmf" ContentType="image/x-wmf"/>
  <Override PartName="/ppt/media/image12.png" ContentType="image/png"/>
  <Override PartName="/ppt/media/image13.jpeg" ContentType="image/jpeg"/>
  <Override PartName="/ppt/media/image21.png" ContentType="image/png"/>
  <Override PartName="/ppt/media/image4.png" ContentType="image/png"/>
  <Override PartName="/ppt/media/image19.wmf" ContentType="image/x-wmf"/>
  <Override PartName="/ppt/media/image2.jpeg" ContentType="image/jpeg"/>
  <Override PartName="/ppt/media/image20.png" ContentType="image/png"/>
  <Override PartName="/ppt/media/image18.png" ContentType="image/png"/>
  <Override PartName="/ppt/media/image17.jpeg" ContentType="image/jpeg"/>
  <Override PartName="/ppt/media/image14.jpeg" ContentType="image/jpeg"/>
  <Override PartName="/ppt/media/image16.wmf" ContentType="image/x-wmf"/>
  <Override PartName="/ppt/media/image1.jpeg" ContentType="image/jpeg"/>
  <Override PartName="/ppt/media/image5.png" ContentType="image/pn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A1F5294-0520-4F36-BD9D-2A91948B1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104335F-5AA7-4AD4-962D-0B588241B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D3DEE1B-FB66-41C6-B32D-4D7F78CAE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58E46A0-0EEA-4B64-B1DD-638F316CA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092E0DE-E05A-4A9E-B2A8-98C04FCD1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45FD260-A4E4-46BE-97E6-F1A07FC51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737D-6ABC-45A5-B2BB-161478D98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5EFF-B819-4A6F-A144-34805BFE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F2A6-A0BB-43C3-BCFF-FA91A5FF1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64BB-2BDC-4CFB-95F8-C3F8C1C0E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C635-D9BD-4E5C-AF90-1FBDB4A3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A653-CF65-4E3F-92F8-85F08BD7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5895-0BC2-4430-BEDF-27524BC2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8838-E3F0-4FED-A9C2-1541CF3E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FAE3-2676-407B-B948-046E796C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5AA0-1B44-4B28-80B5-1C157E61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935B-2BB4-465E-BD9B-32371B87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3653-8C28-4399-96C8-0077A58E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A66B-AAE6-4E12-8AE6-E47B502038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3F00-6F3B-4EE6-8FC6-F53866F9FC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Bank On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90F1-A027-46E8-8B06-C224A03BE7BC}" type="slidenum">
              <a:rPr b="1" lang="en-US" sz="1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9B45-F313-4223-855E-9C993E7B95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optoutprescreen.com/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Bank On It title slide with FDIC Money Smart logo and module logo including a coin being deposited into a ban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228600" y="838080"/>
            <a:ext cx="350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ank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685800" y="1935000"/>
            <a:ext cx="32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n I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pen a Bank Accou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066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count verification proc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about “second chance” checking programs if you are unable to open an accou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se the “Choosing a Bank and a Bank Account Checklist” to select services that are right for yo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Depos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Deposit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money you add to your accou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Deposit slip:</a:t>
            </a:r>
            <a:r>
              <a:rPr b="1" lang="en-US" sz="3000" spc="-1" strike="noStrike">
                <a:solidFill>
                  <a:srgbClr val="c1961c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lls the bank how much money you are adding to your accoun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te: You may not have immediate use of deposited funds until the bank ensures there are funds at the originating bank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al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he amount of money you have in your bank account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is your balanc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3048120"/>
          <a:ext cx="7315200" cy="1942920"/>
        </p:xfrm>
        <a:graphic>
          <a:graphicData uri="http://schemas.openxmlformats.org/drawingml/2006/table">
            <a:tbl>
              <a:tblPr/>
              <a:tblGrid>
                <a:gridCol w="2438280"/>
                <a:gridCol w="2438640"/>
                <a:gridCol w="2438280"/>
              </a:tblGrid>
              <a:tr h="87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0760"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/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al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</a:tr>
              <a:tr h="1066680">
                <a:tc>
                  <a:txBody>
                    <a:bodyPr lIns="68760" rIns="68760" tIns="0" bIns="0" anchor="t">
                      <a:noAutofit/>
                    </a:bodyPr>
                    <a:p>
                      <a:pPr marL="162000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11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1241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ening Bal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07960"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07960"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sp>
        <p:nvSpPr>
          <p:cNvPr id="126" name="TextBox 4"/>
          <p:cNvSpPr/>
          <p:nvPr/>
        </p:nvSpPr>
        <p:spPr>
          <a:xfrm>
            <a:off x="4027320" y="4000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$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6553080" y="4000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ithdraw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aking money out of your account using checks, withdrawal slip, or AT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ways know how much is in your account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62120" y="2895480"/>
          <a:ext cx="7315200" cy="2210040"/>
        </p:xfrm>
        <a:graphic>
          <a:graphicData uri="http://schemas.openxmlformats.org/drawingml/2006/table">
            <a:tbl>
              <a:tblPr/>
              <a:tblGrid>
                <a:gridCol w="2438280"/>
                <a:gridCol w="2438280"/>
                <a:gridCol w="2438640"/>
              </a:tblGrid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/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al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</a:tr>
              <a:tr h="1066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ening Bal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507960" algn="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$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507960" algn="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533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thdraw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$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sp>
        <p:nvSpPr>
          <p:cNvPr id="131" name="TextBox 8"/>
          <p:cNvSpPr/>
          <p:nvPr/>
        </p:nvSpPr>
        <p:spPr>
          <a:xfrm>
            <a:off x="6705720" y="45813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Fe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amples inclu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onthly maintenance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enalty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Overdraft fe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Dollar sign"/>
          <p:cNvPicPr/>
          <p:nvPr/>
        </p:nvPicPr>
        <p:blipFill>
          <a:blip r:embed="rId1"/>
          <a:stretch/>
        </p:blipFill>
        <p:spPr>
          <a:xfrm>
            <a:off x="6172200" y="22860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alance After Fees Charg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295280" y="1981080"/>
          <a:ext cx="6400800" cy="2962440"/>
        </p:xfrm>
        <a:graphic>
          <a:graphicData uri="http://schemas.openxmlformats.org/drawingml/2006/table">
            <a:tbl>
              <a:tblPr/>
              <a:tblGrid>
                <a:gridCol w="2133720"/>
                <a:gridCol w="2133720"/>
                <a:gridCol w="2133360"/>
              </a:tblGrid>
              <a:tr h="631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/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al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</a:tr>
              <a:tr h="1067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ening Bal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507960" algn="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$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507960" algn="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631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thdraw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$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631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$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sp>
        <p:nvSpPr>
          <p:cNvPr id="137" name="TextBox 3"/>
          <p:cNvSpPr/>
          <p:nvPr/>
        </p:nvSpPr>
        <p:spPr>
          <a:xfrm>
            <a:off x="6337440" y="4416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1: Making Deposits and Withdraw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1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ad the scenario carefull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omplete the ta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etermine the new bal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Deposit Accou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066680"/>
            <a:ext cx="8381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amples includ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hecking account–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o pay bills and buy goo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avings account–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o save money and earn intere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may have transaction and monthly fe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 bank will send you periodic statement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ank vs. Check-Cashing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09480" y="1219320"/>
          <a:ext cx="3886200" cy="420660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eck-Cashing Servi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32523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32523"/>
                          </a:solidFill>
                          <a:latin typeface="Arial"/>
                          <a:ea typeface="ＭＳ Ｐゴシック"/>
                        </a:rPr>
                        <a:t>Check-cashing fee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 x $5 = $20 a mon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20 x 12 = $240 a y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32523"/>
                          </a:solidFill>
                          <a:latin typeface="Arial"/>
                          <a:ea typeface="ＭＳ Ｐゴシック"/>
                        </a:rPr>
                        <a:t>Money order fee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x $1 = $5 a mon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5 x 12 = $60 a y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otal: $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724280" y="1219320"/>
          <a:ext cx="3810240" cy="3870360"/>
        </p:xfrm>
        <a:graphic>
          <a:graphicData uri="http://schemas.openxmlformats.org/drawingml/2006/table">
            <a:tbl>
              <a:tblPr/>
              <a:tblGrid>
                <a:gridCol w="38102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Ba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32523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32523"/>
                          </a:solidFill>
                          <a:latin typeface="Arial"/>
                          <a:ea typeface="ＭＳ Ｐゴシック"/>
                        </a:rPr>
                        <a:t>Monthly fee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5 a mon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5 x 12 = $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32523"/>
                          </a:solidFill>
                          <a:latin typeface="Arial"/>
                          <a:ea typeface="ＭＳ Ｐゴシック"/>
                        </a:rPr>
                        <a:t>Box of checks: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otal: $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avings: $2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dditional Benefits of a Ban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9903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ernet banking access 24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hours, 7 days a wee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ood credentials for loan applications with responsible u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 worries about cash being lost or stol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5" descr="Woman banking online"/>
          <p:cNvPicPr/>
          <p:nvPr/>
        </p:nvPicPr>
        <p:blipFill>
          <a:blip r:embed="rId1"/>
          <a:stretch/>
        </p:blipFill>
        <p:spPr>
          <a:xfrm>
            <a:off x="3962520" y="3962520"/>
            <a:ext cx="136836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962160" y="129528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round R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" descr="Handshake"/>
          <p:cNvPicPr/>
          <p:nvPr/>
        </p:nvPicPr>
        <p:blipFill>
          <a:blip r:embed="rId1"/>
          <a:stretch/>
        </p:blipFill>
        <p:spPr>
          <a:xfrm>
            <a:off x="304920" y="15238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ter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 percentage of your balance that the bank pays you for keeping your money at that bank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69800" y="2362320"/>
          <a:ext cx="8229600" cy="2619360"/>
        </p:xfrm>
        <a:graphic>
          <a:graphicData uri="http://schemas.openxmlformats.org/drawingml/2006/table">
            <a:tbl>
              <a:tblPr/>
              <a:tblGrid>
                <a:gridCol w="3353040"/>
                <a:gridCol w="2133360"/>
                <a:gridCol w="2743200"/>
              </a:tblGrid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/-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alan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</a:tr>
              <a:tr h="561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ening Balan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507960" algn="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$1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507960" algn="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498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thdraw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$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8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498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$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7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498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es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$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sp>
        <p:nvSpPr>
          <p:cNvPr id="152" name="TextBox 5"/>
          <p:cNvSpPr/>
          <p:nvPr/>
        </p:nvSpPr>
        <p:spPr>
          <a:xfrm>
            <a:off x="7340760" y="4492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7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Non-Deposit Accou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ludes stocks, bonds, and mutual fu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t FDIC-insured; therefore, you may risk losing your invest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5" descr="Model of a business man with briefcase standing on a line graph"/>
          <p:cNvPicPr/>
          <p:nvPr/>
        </p:nvPicPr>
        <p:blipFill>
          <a:blip r:embed="rId1"/>
          <a:stretch/>
        </p:blipFill>
        <p:spPr>
          <a:xfrm>
            <a:off x="2895480" y="3505320"/>
            <a:ext cx="3124440" cy="1785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mon Banking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Diagram 7" descr="Common banking services include: direct deposit, ATM, debit card, loan, money order, money transfer, remittance, stored value card, and telephone and online banking"/>
          <p:cNvPicPr/>
          <p:nvPr/>
        </p:nvPicPr>
        <p:blipFill>
          <a:blip r:embed="rId1"/>
          <a:stretch/>
        </p:blipFill>
        <p:spPr>
          <a:xfrm>
            <a:off x="835200" y="1109520"/>
            <a:ext cx="7022880" cy="42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2: Name That Serv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Complete Activity 2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736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Read the description of each servic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736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hoose the banking service that matches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736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Fill in the blank with the name of the banking serv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ivacy Not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plain how your personal financial information 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Sha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Prote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nder Federal law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Financial institutions must keep personal financial information priv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You can stop or “opt out” of some information shar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Group 5"/>
          <p:cNvGrpSpPr/>
          <p:nvPr/>
        </p:nvGrpSpPr>
        <p:grpSpPr>
          <a:xfrm>
            <a:off x="4876920" y="1871640"/>
            <a:ext cx="2514600" cy="1725480"/>
            <a:chOff x="4876920" y="1871640"/>
            <a:chExt cx="2514600" cy="1725480"/>
          </a:xfrm>
        </p:grpSpPr>
        <p:pic>
          <p:nvPicPr>
            <p:cNvPr id="164" name="Picture 9" descr="C:\Documents and Settings\Karissa\Local Settings\Temporary Internet Files\Content.IE5\B5IZ3GU1\MCj03110340000[1].wmf"/>
            <p:cNvPicPr/>
            <p:nvPr/>
          </p:nvPicPr>
          <p:blipFill>
            <a:blip r:embed="rId1"/>
            <a:stretch/>
          </p:blipFill>
          <p:spPr>
            <a:xfrm>
              <a:off x="4876920" y="1871640"/>
              <a:ext cx="2514600" cy="17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WordArt 7"/>
            <p:cNvSpPr txBox="1"/>
            <p:nvPr/>
          </p:nvSpPr>
          <p:spPr>
            <a:xfrm rot="715200">
              <a:off x="5467320" y="2298240"/>
              <a:ext cx="16923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Privacy Notice</a:t>
              </a:r>
              <a:endParaRPr b="0" i="1" lang="en-US" sz="1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pting Ou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iew privacy not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imit information credit bureaus can sh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pt out of receiving prescreened offer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all 1-888-5-OPTOUT (567-8688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Visit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hlinkClick r:id="rId1"/>
              </a:rPr>
              <a:t>www.optoutprescreen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8" name="Group 5"/>
          <p:cNvGrpSpPr/>
          <p:nvPr/>
        </p:nvGrpSpPr>
        <p:grpSpPr>
          <a:xfrm>
            <a:off x="6102360" y="380880"/>
            <a:ext cx="1668600" cy="2017800"/>
            <a:chOff x="6102360" y="380880"/>
            <a:chExt cx="1668600" cy="2017800"/>
          </a:xfrm>
        </p:grpSpPr>
        <p:pic>
          <p:nvPicPr>
            <p:cNvPr id="169" name="Picture 5" descr="MC900447045[1]"/>
            <p:cNvPicPr/>
            <p:nvPr/>
          </p:nvPicPr>
          <p:blipFill>
            <a:blip r:embed="rId2"/>
            <a:stretch/>
          </p:blipFill>
          <p:spPr>
            <a:xfrm>
              <a:off x="6102360" y="380880"/>
              <a:ext cx="166860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WordArt 6"/>
            <p:cNvSpPr txBox="1"/>
            <p:nvPr/>
          </p:nvSpPr>
          <p:spPr>
            <a:xfrm>
              <a:off x="6146640" y="1828800"/>
              <a:ext cx="160056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1" strike="noStrike">
                  <a:ln w="9360">
                    <a:solidFill>
                      <a:srgbClr val="c0504d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Opt Out</a:t>
              </a:r>
              <a:endParaRPr b="0" i="1" lang="en-US" sz="1200" spc="1" strike="noStrike">
                <a:ln w="9360">
                  <a:solidFill>
                    <a:srgbClr val="c0504d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pting Ou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7200" indent="-2772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cannot opt out completel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inancial companies can provid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Information to firms promoting the company’s products or partner produ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ransaction records to firms providing data processing/mailing services for the compa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Information about you in response to court or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Your payment history to credit burea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5" descr="Computer monitor, files, and padlock"/>
          <p:cNvPicPr/>
          <p:nvPr/>
        </p:nvPicPr>
        <p:blipFill>
          <a:blip r:embed="rId1"/>
          <a:stretch/>
        </p:blipFill>
        <p:spPr>
          <a:xfrm>
            <a:off x="6705720" y="304920"/>
            <a:ext cx="205740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ank Employees Include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ustomer Service Representati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Tell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Loan Offic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ranch Manag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Woman at teller window"/>
          <p:cNvPicPr/>
          <p:nvPr/>
        </p:nvPicPr>
        <p:blipFill>
          <a:blip r:embed="rId1"/>
          <a:stretch/>
        </p:blipFill>
        <p:spPr>
          <a:xfrm>
            <a:off x="5014800" y="2590920"/>
            <a:ext cx="22035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Key Points to Rememb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1066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Ask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for help if you do not know whom to talk to at a ba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Ask questions until you are clear on all the inform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Do not sign anything you do not und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Ask for written information to take home to revi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Use the “Choosing a Bank and a Bank Account Checklist” to help you choose a bank and the account that is right for y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2" descr="Exclamation mark"/>
          <p:cNvPicPr/>
          <p:nvPr/>
        </p:nvPicPr>
        <p:blipFill>
          <a:blip r:embed="rId1"/>
          <a:stretch/>
        </p:blipFill>
        <p:spPr>
          <a:xfrm>
            <a:off x="8077320" y="30492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y the major types of insured financial institu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y five reasons to use a ban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e the steps involved in opening and maintaining a bank accou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Bank"/>
          <p:cNvPicPr/>
          <p:nvPr/>
        </p:nvPicPr>
        <p:blipFill>
          <a:blip r:embed="rId1"/>
          <a:srcRect l="0" t="0" r="0" b="11995"/>
          <a:stretch/>
        </p:blipFill>
        <p:spPr>
          <a:xfrm>
            <a:off x="3124080" y="4191120"/>
            <a:ext cx="2210040" cy="1944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Stacks of bills and coins"/>
          <p:cNvPicPr/>
          <p:nvPr/>
        </p:nvPicPr>
        <p:blipFill>
          <a:blip r:embed="rId2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6840" y="914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learned abou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ypes of insured financial instit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Basic banking te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How to open and maintain a bank ac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Differences between banks and check-cashing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ypes of accou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ypes of banking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Bank employees and their job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e two types of deposit accou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y additional bank services that come with deposit accou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e the main functions of the bank customer service representative, teller, loan officer, and branch manag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Stacks of bills and coins"/>
          <p:cNvPicPr/>
          <p:nvPr/>
        </p:nvPicPr>
        <p:blipFill>
          <a:blip r:embed="rId1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anking servic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Your View of Ban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9903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comes to mind when you hear the word bank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has been your experience with a ban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2" descr="Bank customers in line"/>
          <p:cNvPicPr/>
          <p:nvPr/>
        </p:nvPicPr>
        <p:blipFill>
          <a:blip r:embed="rId1"/>
          <a:srcRect l="0" t="2944" r="3806" b="0"/>
          <a:stretch/>
        </p:blipFill>
        <p:spPr>
          <a:xfrm>
            <a:off x="3276720" y="2895480"/>
            <a:ext cx="2438280" cy="2516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w many of you keep your money in a ban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y keep your money in a ban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onven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Financial fu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asons to Keep Money in a Ban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14" descr="Woman holding cash and a credit or debit card"/>
          <p:cNvPicPr/>
          <p:nvPr/>
        </p:nvPicPr>
        <p:blipFill>
          <a:blip r:embed="rId1"/>
          <a:stretch/>
        </p:blipFill>
        <p:spPr>
          <a:xfrm>
            <a:off x="6400800" y="3048120"/>
            <a:ext cx="205740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sured Financial Institu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anks and Thrif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re subject to federal and state la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ake loans, pay checks, accept deposits, and provide other financial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redit Union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n addition to the abov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  <a:ea typeface="Arial"/>
              </a:rPr>
              <a:t>Are non-profit financial instit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  <a:ea typeface="Arial"/>
              </a:rPr>
              <a:t>Require a membership to open an accou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pen &amp; Maintain a Bank Accou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pen the accoun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ke deposits and withdraw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cord interest and fe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Keep track of your bal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Hands taking money from and adding money to a bank"/>
          <p:cNvPicPr/>
          <p:nvPr/>
        </p:nvPicPr>
        <p:blipFill>
          <a:blip r:embed="rId1"/>
          <a:stretch/>
        </p:blipFill>
        <p:spPr>
          <a:xfrm>
            <a:off x="6781680" y="2743200"/>
            <a:ext cx="1616040" cy="2684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8:15Z</dcterms:created>
  <dc:creator/>
  <dc:description/>
  <dc:language>en-US</dc:language>
  <cp:lastModifiedBy>National Technologies Inc.</cp:lastModifiedBy>
  <cp:lastPrinted>2010-01-07T20:59:10Z</cp:lastPrinted>
  <dcterms:modified xsi:type="dcterms:W3CDTF">2010-11-01T14:00:40Z</dcterms:modified>
  <cp:revision>20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