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9.jpeg" ContentType="image/jpeg"/>
  <Override PartName="/ppt/media/image8.wmf" ContentType="image/x-wmf"/>
  <Override PartName="/ppt/media/image7.wmf" ContentType="image/x-wmf"/>
  <Override PartName="/ppt/media/image12.png" ContentType="image/png"/>
  <Override PartName="/ppt/media/image13.jpeg" ContentType="image/jpeg"/>
  <Override PartName="/ppt/media/image21.png" ContentType="image/png"/>
  <Override PartName="/ppt/media/image4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jpeg" ContentType="image/jpeg"/>
  <Override PartName="/ppt/media/image16.wmf" ContentType="image/x-wmf"/>
  <Override PartName="/ppt/media/image1.jpeg" ContentType="image/jpeg"/>
  <Override PartName="/ppt/media/image5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68CFF1-BEA7-42DD-B31F-1702F34C4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5E7671-4F03-4625-8E0E-B72C51672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6B90E1-5755-4B5E-87C0-1827D9753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E599F1-6800-4327-8A5D-5D36F393F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2D1EAE-B80C-446B-837E-7534DB142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9C20C0-573F-471E-A4D4-5ECE710FA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E6DB-3674-4045-8A7A-95F39B02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A8D-B6BD-407D-A56D-CE5F981C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A10-08BE-4D64-AB7F-AADA2E27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A64-543D-4FC0-BE14-1221833C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408-3B0A-4AF3-91D4-E3C21395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5C9-94E9-4C06-8C5F-E56522C0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0CC-65B8-4A49-9833-60803604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149-7D3A-452F-ADD1-EF33275B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36D-9118-4F03-8EAB-D91B2419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1B2-91BB-431A-BC9A-76A5662C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A82-D415-42D1-8FE4-53E3A769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D13-1715-4A91-B62D-2693A548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1196-25B0-43B5-B442-4E18589577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7641-DE1F-4853-9BDB-492E044CB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Bank On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1614-5E3D-4E9D-9C3D-8F6C1D9F6D57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5E0D-63B6-4DA2-9CE6-512C72EA18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Bank On It title slide with FDIC Money Smart logo and module logo including a coin being deposited into a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228600" y="8380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" y="19350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n I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en a Bank Accou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count verification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 “second chance” checking programs if you are unable to open an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e the “Choosing a Bank and a Bank Account Checklist” to select services that are right for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os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Deposit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money you add to your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Deposit slip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ls the bank how much money you are adding to your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e: You may not have immediate use of deposited funds until the bank ensures there are funds at the originating bank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l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amount of money you have in your bank account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s your balanc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3048120"/>
          <a:ext cx="7315200" cy="194292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  <a:gridCol w="2438280"/>
              </a:tblGrid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marL="162000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9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9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26" name="TextBox 4"/>
          <p:cNvSpPr/>
          <p:nvPr/>
        </p:nvSpPr>
        <p:spPr>
          <a:xfrm>
            <a:off x="4027320" y="4000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6553080" y="4000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ithdraw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king money out of your account using checks, withdrawal slip, or A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ways know how much is in your account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2895480"/>
          <a:ext cx="7315200" cy="221004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243864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6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31" name="TextBox 8"/>
          <p:cNvSpPr/>
          <p:nvPr/>
        </p:nvSpPr>
        <p:spPr>
          <a:xfrm>
            <a:off x="6705720" y="4581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amples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onthly maintenanc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enalty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Overdraft fe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Dollar sign"/>
          <p:cNvPicPr/>
          <p:nvPr/>
        </p:nvPicPr>
        <p:blipFill>
          <a:blip r:embed="rId1"/>
          <a:stretch/>
        </p:blipFill>
        <p:spPr>
          <a:xfrm>
            <a:off x="6172200" y="2286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lance After Fees Charg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95280" y="1981080"/>
          <a:ext cx="6400800" cy="296244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7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3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3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37" name="TextBox 3"/>
          <p:cNvSpPr/>
          <p:nvPr/>
        </p:nvSpPr>
        <p:spPr>
          <a:xfrm>
            <a:off x="6337440" y="4416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Making Deposits and Withdraw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 carefu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mplete the t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termine the new bal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osit Accou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0666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amples inclu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hecking account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 pay bills and buy goo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avings account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 save money and earn inter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may have transaction and monthly fe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bank will send you periodic statemen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 vs. Check-Cashing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9480" y="1219320"/>
          <a:ext cx="3886200" cy="42066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eck-Cashing Servi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3252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Check-cashing fe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 x $5 = $20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20 x 12 = $240 a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Money order fe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x $1 = $5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x 12 = $60 a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: 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724280" y="1219320"/>
          <a:ext cx="3810240" cy="387036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a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3252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Monthly fe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x 12 = $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Box of checks: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: $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avings: $2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Benefits of a B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net banking access 24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hours, 7 days a we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ood credentials for loan applications with responsible 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 worries about cash being lost or stol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Woman banking online"/>
          <p:cNvPicPr/>
          <p:nvPr/>
        </p:nvPicPr>
        <p:blipFill>
          <a:blip r:embed="rId1"/>
          <a:stretch/>
        </p:blipFill>
        <p:spPr>
          <a:xfrm>
            <a:off x="3962520" y="3962520"/>
            <a:ext cx="136836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percentage of your balance that the bank pays you for keeping your money at that ban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9800" y="2362320"/>
          <a:ext cx="8229600" cy="2619360"/>
        </p:xfrm>
        <a:graphic>
          <a:graphicData uri="http://schemas.openxmlformats.org/drawingml/2006/table">
            <a:tbl>
              <a:tblPr/>
              <a:tblGrid>
                <a:gridCol w="3353040"/>
                <a:gridCol w="2133360"/>
                <a:gridCol w="2743200"/>
              </a:tblGrid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e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52" name="TextBox 5"/>
          <p:cNvSpPr/>
          <p:nvPr/>
        </p:nvSpPr>
        <p:spPr>
          <a:xfrm>
            <a:off x="7340760" y="4492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7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Non-Deposit Accou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s stocks, bonds, and mutual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 FDIC-insured; therefore, you may risk losing your invest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Model of a business man with briefcase standing on a line graph"/>
          <p:cNvPicPr/>
          <p:nvPr/>
        </p:nvPicPr>
        <p:blipFill>
          <a:blip r:embed="rId1"/>
          <a:stretch/>
        </p:blipFill>
        <p:spPr>
          <a:xfrm>
            <a:off x="2895480" y="3505320"/>
            <a:ext cx="312444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mon Banking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Diagram 7" descr="Common banking services include: direct deposit, ATM, debit card, loan, money order, money transfer, remittance, stored value card, and telephone and online banking"/>
          <p:cNvPicPr/>
          <p:nvPr/>
        </p:nvPicPr>
        <p:blipFill>
          <a:blip r:embed="rId1"/>
          <a:stretch/>
        </p:blipFill>
        <p:spPr>
          <a:xfrm>
            <a:off x="835200" y="1109520"/>
            <a:ext cx="702288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Name That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ad the description of each servi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oose the banking service that matches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ll in the blank with the name of the banking serv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vacy Not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how your personal financial information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der Federal law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nancial institutions must keep personal financial information priv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You can stop or “opt out” of some information sha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4876920" y="1871640"/>
            <a:ext cx="2514600" cy="1725480"/>
            <a:chOff x="4876920" y="1871640"/>
            <a:chExt cx="2514600" cy="1725480"/>
          </a:xfrm>
        </p:grpSpPr>
        <p:pic>
          <p:nvPicPr>
            <p:cNvPr id="164" name="Picture 9" descr="C:\Documents and Settings\Karissa\Local Settings\Temporary Internet Files\Content.IE5\B5IZ3GU1\MCj03110340000[1].wmf"/>
            <p:cNvPicPr/>
            <p:nvPr/>
          </p:nvPicPr>
          <p:blipFill>
            <a:blip r:embed="rId1"/>
            <a:stretch/>
          </p:blipFill>
          <p:spPr>
            <a:xfrm>
              <a:off x="4876920" y="1871640"/>
              <a:ext cx="251460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WordArt 7"/>
            <p:cNvSpPr txBox="1"/>
            <p:nvPr/>
          </p:nvSpPr>
          <p:spPr>
            <a:xfrm rot="715200">
              <a:off x="5467320" y="2298240"/>
              <a:ext cx="1692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Privacy Notice</a:t>
              </a:r>
              <a:endParaRPr b="0" i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privacy not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imit information credit bureaus can sh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t out of receiving prescreened off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al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Visi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6102360" y="380880"/>
            <a:ext cx="1668600" cy="2017800"/>
            <a:chOff x="6102360" y="380880"/>
            <a:chExt cx="1668600" cy="2017800"/>
          </a:xfrm>
        </p:grpSpPr>
        <p:pic>
          <p:nvPicPr>
            <p:cNvPr id="169" name="Picture 5" descr="MC900447045[1]"/>
            <p:cNvPicPr/>
            <p:nvPr/>
          </p:nvPicPr>
          <p:blipFill>
            <a:blip r:embed="rId2"/>
            <a:stretch/>
          </p:blipFill>
          <p:spPr>
            <a:xfrm>
              <a:off x="6102360" y="380880"/>
              <a:ext cx="166860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WordArt 6"/>
            <p:cNvSpPr txBox="1"/>
            <p:nvPr/>
          </p:nvSpPr>
          <p:spPr>
            <a:xfrm>
              <a:off x="6146640" y="1828800"/>
              <a:ext cx="16005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Opt Out</a:t>
              </a:r>
              <a:endParaRPr b="0" i="1" lang="en-US" sz="12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not opt out complete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companies can provi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formation to firms promoting the company’s products or partner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ransaction records to firms providing data processing/mailing services for the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formation about you in response to court 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Your payment history to credit burea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Computer monitor, files, and padlock"/>
          <p:cNvPicPr/>
          <p:nvPr/>
        </p:nvPicPr>
        <p:blipFill>
          <a:blip r:embed="rId1"/>
          <a:stretch/>
        </p:blipFill>
        <p:spPr>
          <a:xfrm>
            <a:off x="6705720" y="304920"/>
            <a:ext cx="20574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 Employees Includ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stomer Service Representa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ell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oan Offic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ranch Manag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Woman at teller window"/>
          <p:cNvPicPr/>
          <p:nvPr/>
        </p:nvPicPr>
        <p:blipFill>
          <a:blip r:embed="rId1"/>
          <a:stretch/>
        </p:blipFill>
        <p:spPr>
          <a:xfrm>
            <a:off x="5014800" y="2590920"/>
            <a:ext cx="22035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Key Points to Rememb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066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for help if you do not know whom to talk to at a ba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 questions until you are clear on all the infor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sign anything you do not und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written information to take home to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“Choosing a Bank and a Bank Account Checklist” to help you choose a bank and the account that is right for y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Exclamation mark"/>
          <p:cNvPicPr/>
          <p:nvPr/>
        </p:nvPicPr>
        <p:blipFill>
          <a:blip r:embed="rId1"/>
          <a:stretch/>
        </p:blipFill>
        <p:spPr>
          <a:xfrm>
            <a:off x="8077320" y="304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major types of insured financial institu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five reasons to use a ban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steps involved in opening and maintaining a bank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31240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insured financial instit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asic banking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How to open and maintain a bank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ifferences between banks and check-cash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bank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ank employees and their jo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wo types of deposit accou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additional bank services that come with deposit accou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main functions of the bank customer service representative, teller, loan officer, and branch manag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anking servic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Your View of Ban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990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comes to mind when you hear the word bank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s been your experience with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2" descr="Bank customers in line"/>
          <p:cNvPicPr/>
          <p:nvPr/>
        </p:nvPicPr>
        <p:blipFill>
          <a:blip r:embed="rId1"/>
          <a:srcRect l="0" t="2944" r="3806" b="0"/>
          <a:stretch/>
        </p:blipFill>
        <p:spPr>
          <a:xfrm>
            <a:off x="3276720" y="2895480"/>
            <a:ext cx="2438280" cy="2516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many of you keep your money in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y keep your money in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onven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nancial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asons to Keep Money in a B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4" descr="Woman holding cash and a credit or debit card"/>
          <p:cNvPicPr/>
          <p:nvPr/>
        </p:nvPicPr>
        <p:blipFill>
          <a:blip r:embed="rId1"/>
          <a:stretch/>
        </p:blipFill>
        <p:spPr>
          <a:xfrm>
            <a:off x="6400800" y="304812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sured Financial Instit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anks and Thrif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re subject to federal and state la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 loans, pay checks, accept deposits, and provide other financial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Un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 addition to the abo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  <a:ea typeface="Arial"/>
              </a:rPr>
              <a:t>Are non-profit financial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  <a:ea typeface="Arial"/>
              </a:rPr>
              <a:t>Require a membership to open an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en &amp; Maintain a Bank Accou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pen the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deposits and withdraw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rd interest and f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track of your bal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Hands taking money from and adding money to a bank"/>
          <p:cNvPicPr/>
          <p:nvPr/>
        </p:nvPicPr>
        <p:blipFill>
          <a:blip r:embed="rId1"/>
          <a:stretch/>
        </p:blipFill>
        <p:spPr>
          <a:xfrm>
            <a:off x="6781680" y="2743200"/>
            <a:ext cx="1616040" cy="2684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National Technologies Inc.</cp:lastModifiedBy>
  <cp:lastPrinted>2010-01-07T20:59:10Z</cp:lastPrinted>
  <dcterms:modified xsi:type="dcterms:W3CDTF">2010-11-01T14:00:40Z</dcterms:modified>
  <cp:revision>2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