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9.jpeg" ContentType="image/jpeg"/>
  <Override PartName="/ppt/media/image8.wmf" ContentType="image/x-wmf"/>
  <Override PartName="/ppt/media/image7.wmf" ContentType="image/x-wmf"/>
  <Override PartName="/ppt/media/image12.png" ContentType="image/png"/>
  <Override PartName="/ppt/media/image13.jpeg" ContentType="image/jpeg"/>
  <Override PartName="/ppt/media/image21.png" ContentType="image/png"/>
  <Override PartName="/ppt/media/image4.png" ContentType="image/png"/>
  <Override PartName="/ppt/media/image19.wmf" ContentType="image/x-wmf"/>
  <Override PartName="/ppt/media/image2.jpeg" ContentType="image/jpeg"/>
  <Override PartName="/ppt/media/image20.png" ContentType="image/png"/>
  <Override PartName="/ppt/media/image18.png" ContentType="image/png"/>
  <Override PartName="/ppt/media/image17.jpeg" ContentType="image/jpeg"/>
  <Override PartName="/ppt/media/image14.jpeg" ContentType="image/jpeg"/>
  <Override PartName="/ppt/media/image16.wmf" ContentType="image/x-wmf"/>
  <Override PartName="/ppt/media/image1.jpeg" ContentType="image/jpeg"/>
  <Override PartName="/ppt/media/image5.png" ContentType="image/pn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9007FE5-BA7E-4898-B471-969D323DF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E4DFFC3-0667-4E74-8E1D-4643BD060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83D2046-E09D-43F1-89CD-FE9C89330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7C24B90-1710-42ED-BCF1-2690FF443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2CD9D3B-444B-467D-8507-3D38E84ED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0E32D2F-300C-458F-ACE4-50E4C5906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158F-4954-462F-B7FD-1258609B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99D5-C33C-4457-B466-590B4CF0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032A-0C1B-458C-9BC5-1477E649D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17F9-E37D-4D3D-AF17-7A1BFA5D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1713-A5A6-4129-ACF8-D4BBB669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EAB8-2DBD-4FC3-BD47-C0BB76C9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28EA-2851-4899-BBCA-229AB5CA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350A-1E96-45C1-8999-45FEC7C6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EF76-3E08-42ED-BDF7-D17F6757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57C3-06DA-46F4-B50D-03A6390A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8AF4-AC8C-4B05-83A9-3021D4CE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B6B0-B3F1-473B-9C9B-3C2756D7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2AE0-47D6-493D-9BA9-44E5EB5643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C121-7B28-4FAF-826D-0923422553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Bank On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9C29-5375-4688-BE94-D57BC6A537BB}" type="slidenum">
              <a:rPr b="1" lang="en-US" sz="1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E568-F8F2-41B2-BBE5-B1C9A60D94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optoutprescreen.com/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Bank On It title slide with FDIC Money Smart logo and module logo including a coin being deposited into a ban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228600" y="838080"/>
            <a:ext cx="350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ank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685800" y="1935000"/>
            <a:ext cx="32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On I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pen a Bank Accou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0663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count verification proc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about “second chance” checking programs if you are unable to open an accou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se the “Choosing a Bank and a Bank Account Checklist” to select services that are right for you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eposi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Deposit: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money you add to your accou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Deposit slip:</a:t>
            </a:r>
            <a:r>
              <a:rPr b="1" lang="en-US" sz="3000" spc="-1" strike="noStrike">
                <a:solidFill>
                  <a:srgbClr val="c1961c"/>
                </a:solidFill>
                <a:latin typeface="Helvetica Neue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ells the bank how much money you are adding to your accoun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te: You may not have immediate use of deposited funds until the bank ensures there are funds at the originating bank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al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he amount of money you have in your bank account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is your balanc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3048120"/>
          <a:ext cx="7315200" cy="1942920"/>
        </p:xfrm>
        <a:graphic>
          <a:graphicData uri="http://schemas.openxmlformats.org/drawingml/2006/table">
            <a:tbl>
              <a:tblPr/>
              <a:tblGrid>
                <a:gridCol w="2438280"/>
                <a:gridCol w="2438640"/>
                <a:gridCol w="2438280"/>
              </a:tblGrid>
              <a:tr h="87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0760"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  <a:tr h="1066680">
                <a:tc>
                  <a:txBody>
                    <a:bodyPr lIns="68760" rIns="68760" tIns="0" bIns="0" anchor="t">
                      <a:noAutofit/>
                    </a:bodyPr>
                    <a:p>
                      <a:pPr marL="162000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11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ning 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07960"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07960"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sp>
        <p:nvSpPr>
          <p:cNvPr id="126" name="TextBox 4"/>
          <p:cNvSpPr/>
          <p:nvPr/>
        </p:nvSpPr>
        <p:spPr>
          <a:xfrm>
            <a:off x="4027320" y="4000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$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6553080" y="40006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ithdraw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aking money out of your account using checks, withdrawal slip, or AT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ways know how much is in your account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62120" y="2895480"/>
          <a:ext cx="7315200" cy="2210040"/>
        </p:xfrm>
        <a:graphic>
          <a:graphicData uri="http://schemas.openxmlformats.org/drawingml/2006/table">
            <a:tbl>
              <a:tblPr/>
              <a:tblGrid>
                <a:gridCol w="2438280"/>
                <a:gridCol w="2438280"/>
                <a:gridCol w="2438640"/>
              </a:tblGrid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  <a:tr h="1066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ning 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507960" algn="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$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507960" algn="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533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thdraw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$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sp>
        <p:nvSpPr>
          <p:cNvPr id="131" name="TextBox 8"/>
          <p:cNvSpPr/>
          <p:nvPr/>
        </p:nvSpPr>
        <p:spPr>
          <a:xfrm>
            <a:off x="6705720" y="45813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e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amples inclu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onthly maintenance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Penalty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Overdraft fe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Dollar sign"/>
          <p:cNvPicPr/>
          <p:nvPr/>
        </p:nvPicPr>
        <p:blipFill>
          <a:blip r:embed="rId1"/>
          <a:stretch/>
        </p:blipFill>
        <p:spPr>
          <a:xfrm>
            <a:off x="6172200" y="22860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alance After Fees Charg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295280" y="1981080"/>
          <a:ext cx="6400800" cy="2962440"/>
        </p:xfrm>
        <a:graphic>
          <a:graphicData uri="http://schemas.openxmlformats.org/drawingml/2006/table">
            <a:tbl>
              <a:tblPr/>
              <a:tblGrid>
                <a:gridCol w="2133720"/>
                <a:gridCol w="2133720"/>
                <a:gridCol w="2133360"/>
              </a:tblGrid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  <a:tr h="1067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ning Ba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507960" algn="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$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507960" algn="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631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thdraw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$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631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$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sp>
        <p:nvSpPr>
          <p:cNvPr id="137" name="TextBox 3"/>
          <p:cNvSpPr/>
          <p:nvPr/>
        </p:nvSpPr>
        <p:spPr>
          <a:xfrm>
            <a:off x="6337440" y="44164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1: Making Deposits and Withdraw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Read the scenario careful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omplete the t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Determine the new bal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Deposit Accou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066680"/>
            <a:ext cx="83818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amples includ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Checking account–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o pay bills and buy goo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Savings account–</a:t>
            </a: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o save money and earn interes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may have transaction and monthly fe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bank will send you periodic statement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ank vs. Check-Cashing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09480" y="1219320"/>
          <a:ext cx="3886200" cy="420660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eck-Cashing Servi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32523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32523"/>
                          </a:solidFill>
                          <a:latin typeface="Arial"/>
                          <a:ea typeface="ＭＳ Ｐゴシック"/>
                        </a:rPr>
                        <a:t>Check-cashing fee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4 x $5 = $20 a mon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20 x 12 = $240 a 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32523"/>
                          </a:solidFill>
                          <a:latin typeface="Arial"/>
                          <a:ea typeface="ＭＳ Ｐゴシック"/>
                        </a:rPr>
                        <a:t>Money order fee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x $1 = $5 a mon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5 x 12 = $60 a 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otal: $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724280" y="1219320"/>
          <a:ext cx="3810240" cy="3870360"/>
        </p:xfrm>
        <a:graphic>
          <a:graphicData uri="http://schemas.openxmlformats.org/drawingml/2006/table">
            <a:tbl>
              <a:tblPr/>
              <a:tblGrid>
                <a:gridCol w="38102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Ban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32523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32523"/>
                          </a:solidFill>
                          <a:latin typeface="Arial"/>
                          <a:ea typeface="ＭＳ Ｐゴシック"/>
                        </a:rPr>
                        <a:t>Monthly fee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5 a mon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5 x 12 = $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32523"/>
                          </a:solidFill>
                          <a:latin typeface="Arial"/>
                          <a:ea typeface="ＭＳ Ｐゴシック"/>
                        </a:rPr>
                        <a:t>Box of checks: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$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otal: $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Savings: $2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dditional Benefits of a Ban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9903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rnet banking access 24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 hours, 7 days a we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ood credentials for loan applications with responsible u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 worries about cash being lost or stol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5" descr="Woman banking online"/>
          <p:cNvPicPr/>
          <p:nvPr/>
        </p:nvPicPr>
        <p:blipFill>
          <a:blip r:embed="rId1"/>
          <a:stretch/>
        </p:blipFill>
        <p:spPr>
          <a:xfrm>
            <a:off x="3962520" y="3962520"/>
            <a:ext cx="136836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962160" y="129528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" descr="Handshake"/>
          <p:cNvPicPr/>
          <p:nvPr/>
        </p:nvPicPr>
        <p:blipFill>
          <a:blip r:embed="rId1"/>
          <a:stretch/>
        </p:blipFill>
        <p:spPr>
          <a:xfrm>
            <a:off x="304920" y="15238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ter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 percentage of your balance that the bank pays you for keeping your money at that ban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69800" y="2362320"/>
          <a:ext cx="8229600" cy="2619360"/>
        </p:xfrm>
        <a:graphic>
          <a:graphicData uri="http://schemas.openxmlformats.org/drawingml/2006/table">
            <a:tbl>
              <a:tblPr/>
              <a:tblGrid>
                <a:gridCol w="3353040"/>
                <a:gridCol w="2133360"/>
                <a:gridCol w="2743200"/>
              </a:tblGrid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/-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alan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6228"/>
                    </a:solidFill>
                  </a:tcPr>
                </a:tc>
              </a:tr>
              <a:tr h="561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ning Balan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507960" algn="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$1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507960" algn="r">
                        <a:lnSpc>
                          <a:spcPct val="12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10312416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498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ithdraw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$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8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498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$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7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  <a:tr h="498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e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$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228600"/>
                          <a:tab algn="r" pos="1860480"/>
                          <a:tab algn="r" pos="2158920"/>
                          <a:tab algn="r" pos="3016080"/>
                          <a:tab algn="r" pos="330192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3d69b"/>
                    </a:solidFill>
                  </a:tcPr>
                </a:tc>
              </a:tr>
            </a:tbl>
          </a:graphicData>
        </a:graphic>
      </p:graphicFrame>
      <p:sp>
        <p:nvSpPr>
          <p:cNvPr id="152" name="TextBox 5"/>
          <p:cNvSpPr/>
          <p:nvPr/>
        </p:nvSpPr>
        <p:spPr>
          <a:xfrm>
            <a:off x="7340760" y="4492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7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Non-Deposit Accou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ludes stocks, bonds, and mutual fu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t FDIC-insured; therefore, you may risk losing your invest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5" descr="Model of a business man with briefcase standing on a line graph"/>
          <p:cNvPicPr/>
          <p:nvPr/>
        </p:nvPicPr>
        <p:blipFill>
          <a:blip r:embed="rId1"/>
          <a:stretch/>
        </p:blipFill>
        <p:spPr>
          <a:xfrm>
            <a:off x="2895480" y="3505320"/>
            <a:ext cx="3124440" cy="1785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mmon Banking Serv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Diagram 7" descr="Common banking services include: direct deposit, ATM, debit card, loan, money order, money transfer, remittance, stored value card, and telephone and online banking"/>
          <p:cNvPicPr/>
          <p:nvPr/>
        </p:nvPicPr>
        <p:blipFill>
          <a:blip r:embed="rId1"/>
          <a:stretch/>
        </p:blipFill>
        <p:spPr>
          <a:xfrm>
            <a:off x="835200" y="1109520"/>
            <a:ext cx="7022880" cy="42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Activity 2: Name That Serv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Complete Activity 2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736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Read the description of each servic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736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hoose the banking service that matches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7360" indent="-514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Fill in the blank with the name of the banking serv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rivacy Noti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plain how your personal financial information 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Sha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Protec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Under Federal law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Financial institutions must keep personal financial information priv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You can stop or “opt out” of some information shar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Group 5"/>
          <p:cNvGrpSpPr/>
          <p:nvPr/>
        </p:nvGrpSpPr>
        <p:grpSpPr>
          <a:xfrm>
            <a:off x="4876920" y="1871640"/>
            <a:ext cx="2514600" cy="1725480"/>
            <a:chOff x="4876920" y="1871640"/>
            <a:chExt cx="2514600" cy="1725480"/>
          </a:xfrm>
        </p:grpSpPr>
        <p:pic>
          <p:nvPicPr>
            <p:cNvPr id="164" name="Picture 9" descr="C:\Documents and Settings\Karissa\Local Settings\Temporary Internet Files\Content.IE5\B5IZ3GU1\MCj03110340000[1].wmf"/>
            <p:cNvPicPr/>
            <p:nvPr/>
          </p:nvPicPr>
          <p:blipFill>
            <a:blip r:embed="rId1"/>
            <a:stretch/>
          </p:blipFill>
          <p:spPr>
            <a:xfrm>
              <a:off x="4876920" y="1871640"/>
              <a:ext cx="2514600" cy="17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WordArt 7"/>
            <p:cNvSpPr txBox="1"/>
            <p:nvPr/>
          </p:nvSpPr>
          <p:spPr>
            <a:xfrm rot="715200">
              <a:off x="5467320" y="2298240"/>
              <a:ext cx="169236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Privacy Notice</a:t>
              </a:r>
              <a:endParaRPr b="0" i="1" lang="en-US" sz="1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pting Ou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371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ew privacy noti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imit information credit bureaus can sh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pt out of receiving prescreened offer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all 1-888-5-OPTOUT (567-8688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Visit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hlinkClick r:id="rId1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" name="Group 5"/>
          <p:cNvGrpSpPr/>
          <p:nvPr/>
        </p:nvGrpSpPr>
        <p:grpSpPr>
          <a:xfrm>
            <a:off x="6102360" y="380880"/>
            <a:ext cx="1668600" cy="2017800"/>
            <a:chOff x="6102360" y="380880"/>
            <a:chExt cx="1668600" cy="2017800"/>
          </a:xfrm>
        </p:grpSpPr>
        <p:pic>
          <p:nvPicPr>
            <p:cNvPr id="169" name="Picture 5" descr="MC900447045[1]"/>
            <p:cNvPicPr/>
            <p:nvPr/>
          </p:nvPicPr>
          <p:blipFill>
            <a:blip r:embed="rId2"/>
            <a:stretch/>
          </p:blipFill>
          <p:spPr>
            <a:xfrm>
              <a:off x="6102360" y="380880"/>
              <a:ext cx="166860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WordArt 6"/>
            <p:cNvSpPr txBox="1"/>
            <p:nvPr/>
          </p:nvSpPr>
          <p:spPr>
            <a:xfrm>
              <a:off x="6146640" y="1828800"/>
              <a:ext cx="160056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1" strike="noStrike">
                  <a:ln w="9360">
                    <a:solidFill>
                      <a:srgbClr val="c0504d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Opt Out</a:t>
              </a:r>
              <a:endParaRPr b="0" i="1" lang="en-US" sz="1200" spc="1" strike="noStrike">
                <a:ln w="9360">
                  <a:solidFill>
                    <a:srgbClr val="c0504d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pting Ou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990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7200" indent="-2772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cannot opt out completel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Financial companies can provid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Information to firms promoting the company’s products or partner produ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ransaction records to firms providing data processing/mailing services for the comp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Information about you in response to court or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Your payment history to credit burea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5" descr="Computer monitor, files, and padlock"/>
          <p:cNvPicPr/>
          <p:nvPr/>
        </p:nvPicPr>
        <p:blipFill>
          <a:blip r:embed="rId1"/>
          <a:stretch/>
        </p:blipFill>
        <p:spPr>
          <a:xfrm>
            <a:off x="6705720" y="304920"/>
            <a:ext cx="205740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Bank Employees Include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Customer Service Representati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Tell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Loan Offic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Branch Manag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Woman at teller window"/>
          <p:cNvPicPr/>
          <p:nvPr/>
        </p:nvPicPr>
        <p:blipFill>
          <a:blip r:embed="rId1"/>
          <a:stretch/>
        </p:blipFill>
        <p:spPr>
          <a:xfrm>
            <a:off x="5014800" y="2590920"/>
            <a:ext cx="22035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Key Points to Rememb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1066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Ask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for help if you do not know whom to talk to at a ba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Ask questions until you are clear on all the inform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Do not sign anything you do not und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Ask for written information to take home to revi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se the “Choosing a Bank and a Bank Account Checklist” to help you choose a bank and the account that is right for y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Exclamation mark"/>
          <p:cNvPicPr/>
          <p:nvPr/>
        </p:nvPicPr>
        <p:blipFill>
          <a:blip r:embed="rId1"/>
          <a:stretch/>
        </p:blipFill>
        <p:spPr>
          <a:xfrm>
            <a:off x="8077320" y="3049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the major types of insured financial institu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five reasons to use a ban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e the steps involved in opening and maintaining a bank accou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Bank"/>
          <p:cNvPicPr/>
          <p:nvPr/>
        </p:nvPicPr>
        <p:blipFill>
          <a:blip r:embed="rId1"/>
          <a:srcRect l="0" t="0" r="0" b="11995"/>
          <a:stretch/>
        </p:blipFill>
        <p:spPr>
          <a:xfrm>
            <a:off x="3124080" y="4191120"/>
            <a:ext cx="2210040" cy="1944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Stacks of bills and coins"/>
          <p:cNvPicPr/>
          <p:nvPr/>
        </p:nvPicPr>
        <p:blipFill>
          <a:blip r:embed="rId2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6840" y="914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learned abou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ypes of insured financial instit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Basic banking te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How to open and maintain a bank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Differences between banks and check-cash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ypes of accou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Types of banking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Bank employees and their jo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e two types of deposit accou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additional bank services that come with deposit accou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e the main functions of the bank customer service representative, teller, loan officer, and branch manag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Stacks of bills and coins"/>
          <p:cNvPicPr/>
          <p:nvPr/>
        </p:nvPicPr>
        <p:blipFill>
          <a:blip r:embed="rId1"/>
          <a:stretch/>
        </p:blipFill>
        <p:spPr>
          <a:xfrm>
            <a:off x="7823160" y="380880"/>
            <a:ext cx="1187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anking service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Your View of Ban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9903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comes to mind when you hear the word bank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has been your experience with a ban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2" descr="Bank customers in line"/>
          <p:cNvPicPr/>
          <p:nvPr/>
        </p:nvPicPr>
        <p:blipFill>
          <a:blip r:embed="rId1"/>
          <a:srcRect l="0" t="2944" r="3806" b="0"/>
          <a:stretch/>
        </p:blipFill>
        <p:spPr>
          <a:xfrm>
            <a:off x="3276720" y="2895480"/>
            <a:ext cx="2438280" cy="2516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w many of you keep your money in a ban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y keep your money in a ban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onven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</a:rPr>
              <a:t>Financial fu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asons to Keep Money in a Ban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14" descr="Woman holding cash and a credit or debit card"/>
          <p:cNvPicPr/>
          <p:nvPr/>
        </p:nvPicPr>
        <p:blipFill>
          <a:blip r:embed="rId1"/>
          <a:stretch/>
        </p:blipFill>
        <p:spPr>
          <a:xfrm>
            <a:off x="6400800" y="3048120"/>
            <a:ext cx="205740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Insured Financial Institu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2189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anks and Thrif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Are subject to federal and state la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Make loans, pay checks, accept deposits, and provide other financial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edit Union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 addition to the abov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  <a:ea typeface="Arial"/>
              </a:rPr>
              <a:t>Are non-profit financial instit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Helvetica Neue"/>
                <a:ea typeface="Arial"/>
              </a:rPr>
              <a:t>Require a membership to open an accou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Open &amp; Maintain a Bank Accou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pen the accoun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ke deposits and withdraw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cord interest and fe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Keep track of your bal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Hands taking money from and adding money to a bank"/>
          <p:cNvPicPr/>
          <p:nvPr/>
        </p:nvPicPr>
        <p:blipFill>
          <a:blip r:embed="rId1"/>
          <a:stretch/>
        </p:blipFill>
        <p:spPr>
          <a:xfrm>
            <a:off x="6781680" y="2743200"/>
            <a:ext cx="1616040" cy="2684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8:58:15Z</dcterms:created>
  <dc:creator/>
  <dc:description/>
  <dc:language>en-US</dc:language>
  <cp:lastModifiedBy>National Technologies Inc.</cp:lastModifiedBy>
  <cp:lastPrinted>2010-01-07T20:59:10Z</cp:lastPrinted>
  <dcterms:modified xsi:type="dcterms:W3CDTF">2010-11-01T14:00:40Z</dcterms:modified>
  <cp:revision>20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