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jpeg" ContentType="image/jpeg"/>
  <Override PartName="/ppt/media/image8.wmf" ContentType="image/x-wmf"/>
  <Override PartName="/ppt/media/image7.wmf" ContentType="image/x-wmf"/>
  <Override PartName="/ppt/media/image12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2C7316-06D5-48AC-A7C9-64837F52F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1309DA-5051-4347-BAD4-E1A0C5E5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B51C7E-B825-4CD0-A2A4-BDACD174D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FA8793-ACA3-4756-9D25-8109EE20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3928E7-143E-4F1D-92E2-A44F7F80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0B40B4-8469-46F0-87BE-9FC59F59B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B6D-C82F-4290-A376-F9F28C1B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BD5-8E0C-4A57-BC73-D013F65F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ACE-85DB-49BF-B9F3-83DC6419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F40-4D0F-401A-AB73-EB63AEEF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A2D-449D-4427-8D54-AD0E13C6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33A-28E1-46A9-9E77-204DFEFB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D74-DA50-45DE-AB8F-8CC59C30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410-3B00-49E9-A5A0-B8752AE0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C93-6D5C-4A0E-9A8D-0418F75C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146-EA1C-4DE0-B29C-B92C996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77D-59BB-49DA-B061-5030B6EA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93B-0C11-4947-A1B0-C9FD9B37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C3CB-C26B-4D37-8A46-AD406F3C02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A306-AC83-4A75-A582-B65B2085C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Bank On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0235-188A-4F29-8D07-AD80FED548BE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E7E0-8C81-4B0F-955C-D4C890A658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Bank On It title slide with FDIC Money Smart logo and module logo including a coin being deposited into a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228600" y="8380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" y="1935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n 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count verific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 “second chance” checking programs if you are unable to open an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“Choosing a Bank and a Bank Account Checklist” to select services that are righ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oney you add to your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 slip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ls the bank how much money you are adding to your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e: You may not have immediate use of deposited funds until the bank ensures there are funds at the originating ban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amount of money you have in your bank accoun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your balanc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3048120"/>
          <a:ext cx="7315200" cy="19429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marL="162000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4"/>
          <p:cNvSpPr/>
          <p:nvPr/>
        </p:nvSpPr>
        <p:spPr>
          <a:xfrm>
            <a:off x="402732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55308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ithdraw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king money out of your account using checks, withdrawal slip, or A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ways know how much is in your accoun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895480"/>
          <a:ext cx="7315200" cy="221004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8"/>
          <p:cNvSpPr/>
          <p:nvPr/>
        </p:nvSpPr>
        <p:spPr>
          <a:xfrm>
            <a:off x="6705720" y="4581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thly mainten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enalty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Overdraf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Dollar sign"/>
          <p:cNvPicPr/>
          <p:nvPr/>
        </p:nvPicPr>
        <p:blipFill>
          <a:blip r:embed="rId1"/>
          <a:stretch/>
        </p:blipFill>
        <p:spPr>
          <a:xfrm>
            <a:off x="617220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 After Fees Charg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981080"/>
          <a:ext cx="6400800" cy="296244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7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3"/>
          <p:cNvSpPr/>
          <p:nvPr/>
        </p:nvSpPr>
        <p:spPr>
          <a:xfrm>
            <a:off x="6337440" y="4416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aking Deposits and Withdraw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lete the 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termine the new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hecking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pay bills and buy go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avings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save money and earn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may have transaction and monthly fe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ank will send you periodic statem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vs. Check-Cash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1219320"/>
          <a:ext cx="3886200" cy="4206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ck-Cashing Serv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Check-cashing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x $5 = $20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20 x 12 = $24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ey order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x $1 = 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24280" y="1219320"/>
          <a:ext cx="3810240" cy="38703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thly fe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Box of checks: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avings: $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Benefits of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net banking access 24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hours, 7 days a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od credentials for loan applications with responsible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 worries about cash being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Woman banking online"/>
          <p:cNvPicPr/>
          <p:nvPr/>
        </p:nvPicPr>
        <p:blipFill>
          <a:blip r:embed="rId1"/>
          <a:stretch/>
        </p:blipFill>
        <p:spPr>
          <a:xfrm>
            <a:off x="3962520" y="3962520"/>
            <a:ext cx="1368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percentage of your balance that the bank pays you for keeping your money at that ba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9800" y="2362320"/>
          <a:ext cx="8229600" cy="2619360"/>
        </p:xfrm>
        <a:graphic>
          <a:graphicData uri="http://schemas.openxmlformats.org/drawingml/2006/table">
            <a:tbl>
              <a:tblPr/>
              <a:tblGrid>
                <a:gridCol w="3353040"/>
                <a:gridCol w="2133360"/>
                <a:gridCol w="27432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52" name="TextBox 5"/>
          <p:cNvSpPr/>
          <p:nvPr/>
        </p:nvSpPr>
        <p:spPr>
          <a:xfrm>
            <a:off x="7340760" y="4492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7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Non-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, bonds, and 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 FDIC-insured; therefore, you may risk losing your inves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odel of a business man with briefcase standing on a line graph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mon Bank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Diagram 7" descr="Common banking services include: direct deposit, ATM, debit card, loan, money order, money transfer, remittance, stored value card, and telephone and online banking"/>
          <p:cNvPicPr/>
          <p:nvPr/>
        </p:nvPicPr>
        <p:blipFill>
          <a:blip r:embed="rId1"/>
          <a:stretch/>
        </p:blipFill>
        <p:spPr>
          <a:xfrm>
            <a:off x="835200" y="1109520"/>
            <a:ext cx="70228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Name Tha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ad the description of each servi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oose the banking service that matches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ll in the blank with the name of the banking ser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vacy No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how your personal financial inform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der Federal law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institutions must keep personal financial information priv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 can stop or “opt out” of some information sha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4876920" y="1871640"/>
            <a:ext cx="2514600" cy="1725480"/>
            <a:chOff x="4876920" y="1871640"/>
            <a:chExt cx="2514600" cy="1725480"/>
          </a:xfrm>
        </p:grpSpPr>
        <p:pic>
          <p:nvPicPr>
            <p:cNvPr id="164" name="Picture 9" descr="C:\Documents and Settings\Karissa\Local Settings\Temporary Internet Files\Content.IE5\B5IZ3GU1\MCj03110340000[1].wmf"/>
            <p:cNvPicPr/>
            <p:nvPr/>
          </p:nvPicPr>
          <p:blipFill>
            <a:blip r:embed="rId1"/>
            <a:stretch/>
          </p:blipFill>
          <p:spPr>
            <a:xfrm>
              <a:off x="4876920" y="1871640"/>
              <a:ext cx="2514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WordArt 7"/>
            <p:cNvSpPr txBox="1"/>
            <p:nvPr/>
          </p:nvSpPr>
          <p:spPr>
            <a:xfrm rot="715200">
              <a:off x="5467320" y="2298240"/>
              <a:ext cx="1692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ivacy Notice</a:t>
              </a:r>
              <a:endParaRPr b="0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privacy not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mit information credit bureaus can sh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 out of receiving prescreene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6102360" y="380880"/>
            <a:ext cx="1668600" cy="2017800"/>
            <a:chOff x="6102360" y="380880"/>
            <a:chExt cx="1668600" cy="2017800"/>
          </a:xfrm>
        </p:grpSpPr>
        <p:pic>
          <p:nvPicPr>
            <p:cNvPr id="169" name="Picture 5" descr="MC900447045[1]"/>
            <p:cNvPicPr/>
            <p:nvPr/>
          </p:nvPicPr>
          <p:blipFill>
            <a:blip r:embed="rId2"/>
            <a:stretch/>
          </p:blipFill>
          <p:spPr>
            <a:xfrm>
              <a:off x="6102360" y="380880"/>
              <a:ext cx="16686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6146640" y="1828800"/>
              <a:ext cx="16005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Opt Out</a:t>
              </a:r>
              <a:endParaRPr b="0" i="1" lang="en-US" sz="12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not opt out comple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companies can provi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to firms promoting the company’s products or partner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ransaction records to firms providing data processing/mailing services for the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about you in response to court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r payment history to credit burea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omputer monitor, files, and padlock"/>
          <p:cNvPicPr/>
          <p:nvPr/>
        </p:nvPicPr>
        <p:blipFill>
          <a:blip r:embed="rId1"/>
          <a:stretch/>
        </p:blipFill>
        <p:spPr>
          <a:xfrm>
            <a:off x="6705720" y="304920"/>
            <a:ext cx="20574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Employees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stomer Service Represent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el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oan Offi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Woman at teller window"/>
          <p:cNvPicPr/>
          <p:nvPr/>
        </p:nvPicPr>
        <p:blipFill>
          <a:blip r:embed="rId1"/>
          <a:stretch/>
        </p:blipFill>
        <p:spPr>
          <a:xfrm>
            <a:off x="5014800" y="2590920"/>
            <a:ext cx="2203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Key Points to Reme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for help if you do not know whom to talk to at a ba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questions until you are clear on all the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sign anything you do not und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written information to take home to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“Choosing a Bank and a Bank Account Checklist” to help you choose a bank and the account that is right for y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Exclamation mark"/>
          <p:cNvPicPr/>
          <p:nvPr/>
        </p:nvPicPr>
        <p:blipFill>
          <a:blip r:embed="rId1"/>
          <a:stretch/>
        </p:blipFill>
        <p:spPr>
          <a:xfrm>
            <a:off x="8077320" y="304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major types of insured financial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five reasons to use a ban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steps involved in opening and maintaining a bank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31240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insured financial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sic banking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w to open and maintain a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ifferences between banks and check-cash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bank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nk employees and their jo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wo types of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dditional bank services that come with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main functions of the bank customer service representative, teller, loan officer, and 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ing servic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View of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990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comes to mind when you hear the word bank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s been your experience with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Bank customers in line"/>
          <p:cNvPicPr/>
          <p:nvPr/>
        </p:nvPicPr>
        <p:blipFill>
          <a:blip r:embed="rId1"/>
          <a:srcRect l="0" t="2944" r="3806" b="0"/>
          <a:stretch/>
        </p:blipFill>
        <p:spPr>
          <a:xfrm>
            <a:off x="3276720" y="2895480"/>
            <a:ext cx="2438280" cy="251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many of you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asons to Keep Money in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4" descr="Woman holding cash and a credit or debit card"/>
          <p:cNvPicPr/>
          <p:nvPr/>
        </p:nvPicPr>
        <p:blipFill>
          <a:blip r:embed="rId1"/>
          <a:stretch/>
        </p:blipFill>
        <p:spPr>
          <a:xfrm>
            <a:off x="6400800" y="304812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sured Financial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s and Thrif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subject to federal and state la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oans, pay checks, accept deposits, and provide other financi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Un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 addition to the abo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Are non-profit financial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Require a membership to open an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&amp; Maintai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pen the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deposits and withdraw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interest and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ands taking money from and adding money to a bank"/>
          <p:cNvPicPr/>
          <p:nvPr/>
        </p:nvPicPr>
        <p:blipFill>
          <a:blip r:embed="rId1"/>
          <a:stretch/>
        </p:blipFill>
        <p:spPr>
          <a:xfrm>
            <a:off x="6781680" y="2743200"/>
            <a:ext cx="1616040" cy="2684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00:40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