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8D4B-C2D1-44AD-AB92-2199A46DB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omething that affects all of us:  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here knows that you have a credit history?  Who doesn’t know?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851F-020C-4CE7-8C51-69EA5E7796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your credit report, you can start to tell what your credit history looks like.  In fact, the report usually tells you how you can improve your credit, </a:t>
            </a:r>
            <a:r>
              <a:rPr b="0" lang="en-US" sz="1200" spc="-1" strike="noStrike" u="sng">
                <a:solidFill>
                  <a:srgbClr val="000000"/>
                </a:solidFill>
                <a:uFillTx/>
                <a:latin typeface="Calibri"/>
              </a:rPr>
              <a:t>if</a:t>
            </a:r>
            <a:r>
              <a:rPr b="0" lang="en-US" sz="1200" spc="-1" strike="noStrike">
                <a:solidFill>
                  <a:srgbClr val="000000"/>
                </a:solidFill>
                <a:latin typeface="Calibri"/>
              </a:rPr>
              <a:t> there’s anything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your report might say your credit would be better if you paid your bills on time, if you had fewer credit cards, or if you owed less money on your credit cards.  That tells you what you need to do to improve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credit report doesn’t have much negative information for you, and if you don’t owe too much money on your credit cards, chances are you have pretty good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f there’s lots of negative information listed on your credit report, and the report suggests improving your credit by paying your bills on time, you might have not-so-good credit.</a:t>
            </a:r>
            <a:endParaRPr b="0" lang="en-US" sz="1200" spc="-1" strike="noStrike">
              <a:solidFill>
                <a:srgbClr val="000000"/>
              </a:solidFill>
              <a:latin typeface="Calibri"/>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F9EE-1F19-4683-8A7F-2280CFC1D7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your credit, you’ll need time.  It’s really do-able, but it’ll take at least 6 months of doing things well to see any kind of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tart by paying your bills on time. Every time a bill is late, it hurts your credit.  If you can make this a priority, you’ll really help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we money on credit cards, start to pay them off.  If you can, stop using the credit card that has the highest interest rate, and pay as much as you can each month. When you pay off one credit card, add that payment on to what you pay another credit card.  It’ll take a while, but if you’re paying more than the minimum payment and not using the card, you’ll see your balances go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lready have a credit card or two, don’t get new ones.  Having too many credit cards can hurt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n’t close your older credit cards.  That can actually hurt your credit history.  If you need to close a card, choose a newer one.  It looks better to the credit reporting companies when you’ve had credit for longer.  The credit card you’ve had for years shows that, more than the one you just got.</a:t>
            </a:r>
            <a:endParaRPr b="0" lang="en-US" sz="1200" spc="-1" strike="noStrike">
              <a:solidFill>
                <a:srgbClr val="000000"/>
              </a:solidFill>
              <a:latin typeface="Calibri"/>
            </a:endParaRPr>
          </a:p>
        </p:txBody>
      </p:sp>
      <p:sp>
        <p:nvSpPr>
          <p:cNvPr id="3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8BFC-5F1F-49AD-8483-00198ED136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been talking about good and bad credit, and how you know what you have.  Some people like to know their credit score.  That’s a number related to your credit history, and it’s used by businesses to see if you have good or bad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credit reporting companies has a slightly different score, but in general, they go from a score of 300, which means you have bad credit, to 850, which means you have great credit.   Most of us are somewhere in betw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buying a car or a home, the lenders will get a copy of your credit score with the credit report.  The score makes it easy for them to tell, at a glance, whether they want to do business with you.  If you have great credit, they probably will.  If you have bad credit, they might not – or they will, but they’ll charge you a higher interest rate, since they might see you as a bad credit ri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4DAC-E39B-49ED-94A5-34C60E4D8B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 you </a:t>
            </a:r>
            <a:r>
              <a:rPr b="1" lang="en-US" sz="1200" spc="-1" strike="noStrike">
                <a:solidFill>
                  <a:srgbClr val="000000"/>
                </a:solidFill>
                <a:latin typeface="Calibri"/>
              </a:rPr>
              <a:t>need</a:t>
            </a:r>
            <a:r>
              <a:rPr b="0" lang="en-US" sz="1200" spc="-1" strike="noStrike">
                <a:solidFill>
                  <a:srgbClr val="000000"/>
                </a:solidFill>
                <a:latin typeface="Calibri"/>
              </a:rPr>
              <a:t> to know your credit score?  I don’t have a yes or no answer to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about to make a big purchase – like a car or home, companies are going to look at your credit score. Of course, if you’re making a big purchase, hopefully you’ve already looked at your credit report and fixed any mistakes or problems.  But in that circumstance, you might feel better knowing the score that other people will be u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wise, knowing your credit score might be interesting, in a “what do people think of me” way. But it’s based on the information in your credit report.  Once you know what’s in your credit report, and you have a sense of what your credit looks like, do you need to see a number,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e the only one who can decide that. Know, though, that seeing your credit score almost always costs money.  Ads sometimes say you can get your score for free, but there is always some kind of cost.  You might get signed up for a monthly credit monitoring service, or something else that regularly charges your credit c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ecide to get your credit score, be sure you know what you’re paying for.</a:t>
            </a:r>
            <a:endParaRPr b="0" lang="en-US" sz="1200" spc="-1" strike="noStrike">
              <a:solidFill>
                <a:srgbClr val="000000"/>
              </a:solidFill>
              <a:latin typeface="Calibri"/>
            </a:endParaRPr>
          </a:p>
        </p:txBody>
      </p:sp>
      <p:sp>
        <p:nvSpPr>
          <p:cNvPr id="3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6EDF-D096-4E40-8333-A0273D7804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really important, much more than a number, is what’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you can get a free copy of your credit report once a year from each of the credit reporting companies.  But there’s only one place to get that for free, and that’s Annual Credit Report.  If you go anywhere else for a supposedly free report, you’ll get charged sometime, for some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you can get a free copy of your report sent to you.  You could even do that three different times of year, so you can watch what’s happening with your credit – whether anyone has tried to use your credit card, or maybe how your credit has improved since you made some chan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you do it, it’s a great way to take care of your financial life.  I hope you’ll try it.</a:t>
            </a: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B4CE-8239-42FB-B046-2D23CD96D3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C35E-A8F3-4E27-982E-F6649126FD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ve ever had a credit card, a loan, utilities in your name, or a cell phone with a monthly bill, you probably have a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it because those companies share information about you.</a:t>
            </a: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7114-D40B-45E1-9C63-3A0E465687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history describes how you use money.  It includes how you pay bills – do you pay on time or late?  It includes how many credit cards and loans you have, and how much money you o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at information goes into your credit report, which is a summary of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would be in your credit histor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ruptcy, collections, foreclosures, tax liens, employmen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4135-E628-49D9-BBDE-D656DB17FD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will show everything we just talked about – including your credit cards and loans, how much you owe, how you pay your bills.  It also shows your name, address and Social Security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port also has a section called “Inquiries,” which shows where you applied for credit.  In a minute we’ll talk about how that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F9E7-FF3B-4149-9D8E-49CC46B9F5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in companies that have credit reports – they’re called consumer reporting companies.  The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ather all this information from companies you do business with and then put it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C929-C953-4CDB-8FA4-EAF488732F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you’ve gone years – or even your whole life – without checking your credit report, why should you care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good reasons.  Your credit history might have mistakes that could be costing you money.  Old information usually goes away after 7-10 years, but sometimes it stays around by mistake. If the information is not so good, it could be hurting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have someone else’s information by mistake.  Files can get confused, especially if you have a common name.  Again, if their information isn’t good, it could hurt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nformation that’s not yours could also be more than a mistake.  It could mean that someone else is using your ide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your credit report every year, you’ll be able to spot these problems and start fixing them.</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355B-6C0E-426A-B916-BD5189BD19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mentioned earlier that your credit report has an “Inquiries” section that shows where you applied for credit.  It has that section because businesses check your credit whenever you apply for a loan or credit card.  But you might not know that businesses also look at your credit when you apply for a job, get insurance, or get a cell phone with a monthly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es think your credit report shows what kind of employee you’ll be – or how good a risk for insurance.  Since they’re making decisions about us based on what’s in our credit report, shouldn’t we make sure that the report is right – and that the information actually belongs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what’s in our report?  </a:t>
            </a: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BCDB-2377-481B-BE20-8F2A050494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ever gotten a credit report?  How was that experience? Did you get it from Annual Credit Repor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A987-3A36-4566-9D71-0292BFE070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ere reviewed your credit report?  What did you find?  Mistakes? Problems?</a:t>
            </a: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7E7C-85F8-4921-9156-34EED3472D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Good credit and bad credit</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oo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when they’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don’t owe too much money on your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lat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owe a lot of money on your credit card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proving your credit</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improve your credi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your bills by the date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er the amount you owe – especially on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get any new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close older credit cards.</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a:rPr>
              <a:t>It takes time!</a:t>
            </a:r>
            <a:endParaRPr b="0" lang="en-US" sz="4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score?</a:t>
            </a:r>
            <a:endParaRPr b="0" lang="en-US" sz="36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number related to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good, your score will be high.</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bad, your score will be low.</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cores go from 300 (low) – 850 (high)</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Used when you buy a home or ca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whether to give you credi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how much you’ll pay for your credi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hould you know your credit scor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is most importa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t your credit score might be used when you buy a car or hom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eing your credit score costs money.</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s it worth paying for?</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One more time…</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302"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and your credi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ve you ever h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tilities in your na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ell phone with a monthly bill?</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helps make up your credit histor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history?</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you use mone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pay your bills when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credit cards do you hav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loans do you have?</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helps make up your credit repor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repor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mmary of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ddress, 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credit cards and 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uch money you ow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 pay your bills on time or late</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o creates your credit repor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reporting companies put your information in a credi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my credi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find mistakes or proble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information from years ago</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mebody else’s information</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y mistake</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n purpose</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try to fix mistakes or problems.</a:t>
            </a:r>
            <a:endParaRPr b="0" lang="en-US" sz="2800" spc="-1" strike="noStrike">
              <a:solidFill>
                <a:srgbClr val="40404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your credi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sinesses check your credit when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job</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car or home insuranc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credit card or 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 cell pho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get your credit report?</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it carefully.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it your 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recognize the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the bill-paying information righ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it list credit applications? Did you apply for credit at those plac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8-08T19:20:02Z</cp:lastPrinted>
  <dcterms:modified xsi:type="dcterms:W3CDTF">2012-10-03T13:43:54Z</dcterms:modified>
  <cp:revision>53</cp:revision>
  <dc:subject/>
  <dc:title>Your Credit History</dc:title>
</cp:coreProperties>
</file>