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360" y="0"/>
            <a:ext cx="303372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62160" y="0"/>
            <a:ext cx="3033720" cy="4651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77920" y="694800"/>
            <a:ext cx="4641840" cy="3481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0200" y="4409640"/>
            <a:ext cx="5597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360" y="8817120"/>
            <a:ext cx="303372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62160" y="8817120"/>
            <a:ext cx="3033720" cy="4651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C1AE-8713-4154-955E-E16D9C549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12840" y="703440"/>
            <a:ext cx="4641840" cy="3481200"/>
          </a:xfrm>
          <a:prstGeom prst="rect">
            <a:avLst/>
          </a:prstGeom>
          <a:ln w="0">
            <a:noFill/>
          </a:ln>
        </p:spPr>
      </p:sp>
      <p:sp>
        <p:nvSpPr>
          <p:cNvPr id="310"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m going to talk about how to protect your information to avoid identity theft.  We’ll also discuss what to do if you think someone has stolen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dentity theft? Has anyone had their identity stolen? How did you know that your identity was stol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A989-9069-483C-896A-75644B6055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77920" y="695160"/>
            <a:ext cx="4641840" cy="3481560"/>
          </a:xfrm>
          <a:prstGeom prst="rect">
            <a:avLst/>
          </a:prstGeom>
          <a:ln w="0">
            <a:noFill/>
          </a:ln>
        </p:spPr>
      </p:sp>
      <p:sp>
        <p:nvSpPr>
          <p:cNvPr id="337"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hop in a store, watch your wallet, and be careful with your credit and debit cards.  Do not tell people your P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5876-CFAC-49F7-BDEE-41EA4FEE70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7920" y="695160"/>
            <a:ext cx="4641840" cy="3481560"/>
          </a:xfrm>
          <a:prstGeom prst="rect">
            <a:avLst/>
          </a:prstGeom>
          <a:ln w="0">
            <a:noFill/>
          </a:ln>
        </p:spPr>
      </p:sp>
      <p:sp>
        <p:nvSpPr>
          <p:cNvPr id="340"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can protect your information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using passwords that are hard for someone to guess. Use numbers and symbols when you can.  To make them easy to remember, consider using a symbol or number instead of a letter – so, a dollar sign instead of an ‘S’.  Or use the first letters of a phrase you can remember:  “I got my two dogs five years ago” becomes Igm2d5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emails or other messages that ask for personal information, don’t respond.  Delete them and move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you use a </a:t>
            </a:r>
            <a:r>
              <a:rPr b="0" lang="en-US" sz="1200" spc="-1" strike="noStrike">
                <a:solidFill>
                  <a:srgbClr val="000000"/>
                </a:solidFill>
                <a:latin typeface="Calibri"/>
              </a:rPr>
              <a:t>computer in a public place, like the library or a coffee shop, don’t enter your personal information.  Anyone might be able to get it or se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look for https in the web address when you’re shopping.  That means you’re on a secur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8D7E-EB31-4774-BF9C-FE7AC73EB2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77920" y="695160"/>
            <a:ext cx="4641840" cy="3481560"/>
          </a:xfrm>
          <a:prstGeom prst="rect">
            <a:avLst/>
          </a:prstGeom>
          <a:ln w="0">
            <a:noFill/>
          </a:ln>
        </p:spPr>
      </p:sp>
      <p:sp>
        <p:nvSpPr>
          <p:cNvPr id="343"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ake these steps when you’re doing other kinds of busin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with your Social Security number – only give your Social Security number if you must. Even at the doctor’s office.  Ask if you can use another kind of ident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give your personal information to someone who calls you or emails you. Not 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9B91-2B58-4DCB-8728-900FFE003E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7920" y="695160"/>
            <a:ext cx="4641840" cy="3481560"/>
          </a:xfrm>
          <a:prstGeom prst="rect">
            <a:avLst/>
          </a:prstGeom>
          <a:ln w="0">
            <a:noFill/>
          </a:ln>
        </p:spPr>
      </p:sp>
      <p:sp>
        <p:nvSpPr>
          <p:cNvPr id="34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omeone stole your identity, act fast.  Fast action can help reduce the damage an identity thief can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ree steps immediately:</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fraud alert on your credit reports. </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copies of your credit reports.  You get a free copy of your credit report when you place a fraud alert. And</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 Identity Theft Report. This report is made from information you give the government and the police.  It is your statement of what happened.  </a:t>
            </a:r>
            <a:endParaRPr b="0" lang="en-US" sz="12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ever have to recover from identity theft, here’s something we hear from people who’ve been through it.  You will make a lot of calls and write letters to recover from identity theft.  It’s a good idea to keep copies of every letter you get or send, your alerts, credit reports and other forms.  Keep a list of all the phone calls you make and get to the credit reporting companies and other businesses to report the theft.  You may need to refer to your papers and send copies to prove you are not the thief and that you corrected your ac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05AF-8C1F-4B28-92FF-D10F8B0EA3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77920" y="695160"/>
            <a:ext cx="4641840" cy="3481560"/>
          </a:xfrm>
          <a:prstGeom prst="rect">
            <a:avLst/>
          </a:prstGeom>
          <a:ln w="0">
            <a:noFill/>
          </a:ln>
        </p:spPr>
      </p:sp>
      <p:sp>
        <p:nvSpPr>
          <p:cNvPr id="34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through those steps in a little more det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irst step is to place an initial fraud alert on your three credit repo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any one of the three credit reporting companies.  That company must tell the other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you can reach the fraud departments of the credit reporting companies.  You’ll get an automated system, not a live person, so you might have to be patient to figure out where to go and what number to pr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CB8C-08B6-4D1B-B9C0-E8294039FC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7920" y="695160"/>
            <a:ext cx="4641840" cy="3481560"/>
          </a:xfrm>
          <a:prstGeom prst="rect">
            <a:avLst/>
          </a:prstGeom>
          <a:ln w="0">
            <a:noFill/>
          </a:ln>
        </p:spPr>
      </p:sp>
      <p:sp>
        <p:nvSpPr>
          <p:cNvPr id="35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the fraud alerts placed, which is urgent, you can start gathering information.  You’ll want to get a free copy of your credit report from each of the credit reporting compan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dentity theft victims can get the reports for free.  Call all three credit reporting companies to get your free credit report from each.  The company where you placed the fraud alert should send a report to you automatically.  You might need to go back to the other two companies – and it might mean placing a fraud alert there, too.  That’s fine – it doesn’t mess up anything you’ve done bef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the companies at the numbers for their Fraud Departm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AEE4-4DB8-4C35-9BFA-7A0FD8F2EC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77920" y="695160"/>
            <a:ext cx="4641840" cy="3481560"/>
          </a:xfrm>
          <a:prstGeom prst="rect">
            <a:avLst/>
          </a:prstGeom>
          <a:ln w="0">
            <a:noFill/>
          </a:ln>
        </p:spPr>
      </p:sp>
      <p:sp>
        <p:nvSpPr>
          <p:cNvPr id="35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the reports, make sure all the information in each credit report is about you.  If you don’t recognize all the information there, it could mean someone stole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eed to try to fix it.  It can take time and effort.  But it’s important to fix your credit report, because no one else looking at the report knows the information is not true, unless you tell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contacting any of your accounts that might be affected by identity theft.  For example, if someone else is using your credit card.  Call the company and talk to someone in the fraud department.  Then write the company a letter that explains the situation, the mistakes, and asking them to get rid of the bad information, or close the account.  Be sure to include any proof you might have that they’re not your charges.  And ask the company for a letter back saying you are not responsible for the cha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F124-F1D8-4F2D-87AD-376869C42F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7920" y="695160"/>
            <a:ext cx="4641840" cy="3481560"/>
          </a:xfrm>
          <a:prstGeom prst="rect">
            <a:avLst/>
          </a:prstGeom>
          <a:ln w="0">
            <a:noFill/>
          </a:ln>
        </p:spPr>
      </p:sp>
      <p:sp>
        <p:nvSpPr>
          <p:cNvPr id="35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reate an Identity Theft Report.  This report combines your complaint to the Federal Trade Commission (FTC) and your complaint to the police.  So creating this report means you’ll have to take both those ste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lain to the FTC, call 1-877-438-4338 or go to </a:t>
            </a:r>
            <a:r>
              <a:rPr b="0" lang="en-US" sz="1200" spc="-1" strike="noStrike" u="sng">
                <a:solidFill>
                  <a:srgbClr val="0000ff"/>
                </a:solidFill>
                <a:uFillTx/>
                <a:latin typeface="Calibri"/>
                <a:hlinkClick r:id="rId1"/>
              </a:rPr>
              <a:t>ftc.gov/complaint</a:t>
            </a:r>
            <a:r>
              <a:rPr b="0" lang="en-US" sz="1200" spc="-1" strike="noStrike">
                <a:solidFill>
                  <a:srgbClr val="000000"/>
                </a:solidFill>
                <a:latin typeface="Calibri"/>
              </a:rPr>
              <a:t>.   </a:t>
            </a:r>
            <a:r>
              <a:rPr b="0" lang="en-US" sz="1100" spc="-1" strike="noStrike">
                <a:solidFill>
                  <a:srgbClr val="000000"/>
                </a:solidFill>
                <a:latin typeface="Calibri"/>
              </a:rPr>
              <a:t>Either way, you’ll go through the details of your case, giving as much information as you can.  At the end, you’ll be able to print out your complaint.  This is called an “Identity Theft Affidavit,” which simply means that you swear everything in the document is true. Print and keep this affidavi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o file a police report, take your FTC Identity Theft Affidavit with you.  The details there will help the police.  Be sure to get a copy of the police report, or at least the number of the police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TC report combined with the police report is your Identity Theft Report.  Keep it safe.  You’ll need to use it to help you prove that the thief’s bills aren’t y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C8AD-A387-4503-BA73-B991446A0C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77920" y="695160"/>
            <a:ext cx="4641840" cy="3481560"/>
          </a:xfrm>
          <a:prstGeom prst="rect">
            <a:avLst/>
          </a:prstGeom>
          <a:ln w="0">
            <a:noFill/>
          </a:ln>
        </p:spPr>
      </p:sp>
      <p:sp>
        <p:nvSpPr>
          <p:cNvPr id="361"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we can all think about being careful with our personal information.  And I hope none of us ever needs the information on how to recover from identity theft, but it doesn’t hurt us to be pre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6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0EE1-072F-4D07-A967-5B6FF42730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7920" y="695160"/>
            <a:ext cx="4641840" cy="3481560"/>
          </a:xfrm>
          <a:prstGeom prst="rect">
            <a:avLst/>
          </a:prstGeom>
          <a:ln w="0">
            <a:noFill/>
          </a:ln>
        </p:spPr>
      </p:sp>
      <p:sp>
        <p:nvSpPr>
          <p:cNvPr id="313"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ty theft is a serious crime.  Identity theft happens when someone uses information about you without your permi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nformation?  It can be your name and address or your Social Security number -- or the account numbers for your credit cards, bank accounts, or medical insurance.  This is sometimes called your personal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ad their identity stolen?  How did you know?  What did you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61B6-9521-49DD-BC3B-1B92BD5EF5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7920" y="695160"/>
            <a:ext cx="4641840" cy="3481560"/>
          </a:xfrm>
          <a:prstGeom prst="rect">
            <a:avLst/>
          </a:prstGeom>
          <a:ln w="0">
            <a:noFill/>
          </a:ln>
        </p:spPr>
      </p:sp>
      <p:sp>
        <p:nvSpPr>
          <p:cNvPr id="31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a thief get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ef can get your personal information in person or online.  They might steal your garbage or mail to get your account numbers. They might steal your information from a business or medical office. They might steal your wallet or purse to get the information.  Or they could trick you into sending information in an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n identity thief do with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dentity thief can buy things with your credit cards or get new credit cards.  The thief can open a phone, electricity or gas account, steal your tax refund, or get medical care.  They can even pretend to be you if they are arre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hat kind of companies or places) might have our personal information?  (for example: doctor’s office, pharmacy, work, school, stores where we use a credit c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25D2-8107-46C2-B50A-6D78349D09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7920" y="695160"/>
            <a:ext cx="4641840" cy="3481560"/>
          </a:xfrm>
          <a:prstGeom prst="rect">
            <a:avLst/>
          </a:prstGeom>
          <a:ln w="0">
            <a:noFill/>
          </a:ln>
        </p:spPr>
      </p:sp>
      <p:sp>
        <p:nvSpPr>
          <p:cNvPr id="31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ef can clearly cause all kinds of trouble for you.  The bottom line is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sponsible for what the thief does while using your personal information. This is true even if you don’t know about the b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the identity theft can happen. A thief might get a credit card using your name, then he changes the address.  The bills go to him but he never pays them. That means the credit card company thinks you are not paying the bills. That will hurt your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BBDB-E000-4A45-8EFB-452D560729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7920" y="695160"/>
            <a:ext cx="4641840" cy="3481560"/>
          </a:xfrm>
          <a:prstGeom prst="rect">
            <a:avLst/>
          </a:prstGeom>
          <a:ln w="0">
            <a:noFill/>
          </a:ln>
        </p:spPr>
      </p:sp>
      <p:sp>
        <p:nvSpPr>
          <p:cNvPr id="32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you can tell if someone steals your identity.  Here are some things you can do to t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your bills. </a:t>
            </a:r>
            <a:r>
              <a:rPr b="0" lang="en-US" sz="1200" spc="-1" strike="noStrike">
                <a:solidFill>
                  <a:srgbClr val="000000"/>
                </a:solidFill>
                <a:latin typeface="Calibri"/>
              </a:rPr>
              <a:t>Do you see charges for things you did not bu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tch your bank account statement. </a:t>
            </a:r>
            <a:r>
              <a:rPr b="0" lang="en-US" sz="1200" spc="-1" strike="noStrike">
                <a:solidFill>
                  <a:srgbClr val="000000"/>
                </a:solidFill>
                <a:latin typeface="Calibri"/>
              </a:rPr>
              <a:t>Do you see withdrawals you did not make?  Are there changes you do not exp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eck your mail. </a:t>
            </a:r>
            <a:r>
              <a:rPr b="0" lang="en-US" sz="1200" spc="-1" strike="noStrike">
                <a:solidFill>
                  <a:srgbClr val="000000"/>
                </a:solidFill>
                <a:latin typeface="Calibri"/>
              </a:rPr>
              <a:t>Did you stop getting a bill?  Or did you start getting a new bill you do not know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t your credit report.  </a:t>
            </a:r>
            <a:r>
              <a:rPr b="0" lang="en-US" sz="1200" spc="-1" strike="noStrike">
                <a:solidFill>
                  <a:srgbClr val="000000"/>
                </a:solidFill>
                <a:latin typeface="Calibri"/>
              </a:rPr>
              <a:t>Are there accounts or other information you do not recogn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nswered yes to any of these questions, someone might have stolen your identity.  If so, you must act fast to limit the damage the thief can cause. In a few minutes, we’ll discuss the things you can if your identity is stolen. </a:t>
            </a:r>
            <a:endParaRPr b="0" lang="en-US" sz="1200" spc="-1" strike="noStrike">
              <a:solidFill>
                <a:srgbClr val="000000"/>
              </a:solidFill>
              <a:latin typeface="Calibri"/>
            </a:endParaRPr>
          </a:p>
        </p:txBody>
      </p:sp>
      <p:sp>
        <p:nvSpPr>
          <p:cNvPr id="32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470F-C1FB-47F8-8374-D0B6526F90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7920" y="695160"/>
            <a:ext cx="4641840" cy="3481560"/>
          </a:xfrm>
          <a:prstGeom prst="rect">
            <a:avLst/>
          </a:prstGeom>
          <a:ln w="0">
            <a:noFill/>
          </a:ln>
        </p:spPr>
      </p:sp>
      <p:sp>
        <p:nvSpPr>
          <p:cNvPr id="32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 little more about credit reports. Your credit report is a summary of your credit history.  It lists your name, address, and Social Security number, your credit cards, your loans, how much money you owe, and if you pay your bills on time or late. One way to protect your personal information is to learn what information i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If you are not an identity theft victim,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  It should arrive 2 to 3 weeks after you c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5842-B740-4BF0-8975-11D1D7E37A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7920" y="695160"/>
            <a:ext cx="4641840" cy="3481560"/>
          </a:xfrm>
          <a:prstGeom prst="rect">
            <a:avLst/>
          </a:prstGeom>
          <a:ln w="0">
            <a:noFill/>
          </a:ln>
        </p:spPr>
      </p:sp>
      <p:sp>
        <p:nvSpPr>
          <p:cNvPr id="32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dentity thief’s information is on </a:t>
            </a:r>
            <a:r>
              <a:rPr b="0" lang="en-US" sz="1200" spc="-1" strike="noStrike" u="sng">
                <a:solidFill>
                  <a:srgbClr val="000000"/>
                </a:solidFill>
                <a:uFillTx/>
                <a:latin typeface="Calibri"/>
              </a:rPr>
              <a:t>your</a:t>
            </a:r>
            <a:r>
              <a:rPr b="0" lang="en-US" sz="1200" spc="-1" strike="noStrike">
                <a:solidFill>
                  <a:srgbClr val="000000"/>
                </a:solidFill>
                <a:latin typeface="Calibri"/>
              </a:rPr>
              <a:t> credit report, it might mean that you cannot rent an apartment, get a cell phone, utilities, or a credit card, borrow money or even get some kinds of jobs.  In a few minutes, we will talk about how to fix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AAA7-935D-4226-BEA1-42F1EFE8B3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7920" y="695160"/>
            <a:ext cx="4641840" cy="3481560"/>
          </a:xfrm>
          <a:prstGeom prst="rect">
            <a:avLst/>
          </a:prstGeom>
          <a:ln w="0">
            <a:noFill/>
          </a:ln>
        </p:spPr>
      </p:sp>
      <p:sp>
        <p:nvSpPr>
          <p:cNvPr id="331"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can we do about identity the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you </a:t>
            </a:r>
            <a:r>
              <a:rPr b="1" lang="en-US" sz="1200" spc="-1" strike="noStrike">
                <a:solidFill>
                  <a:srgbClr val="000000"/>
                </a:solidFill>
                <a:latin typeface="Calibri"/>
              </a:rPr>
              <a:t>can</a:t>
            </a:r>
            <a:r>
              <a:rPr b="0" lang="en-US" sz="1200" spc="-1" strike="noStrike">
                <a:solidFill>
                  <a:srgbClr val="000000"/>
                </a:solidFill>
                <a:latin typeface="Calibri"/>
              </a:rPr>
              <a:t> protect your personal information and lower your risk. That helps you protect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how you use your personal information.  Protect your information at home, when you shop, and when you use your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1046-AD93-4736-8AE7-BF7AD352CF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7920" y="695160"/>
            <a:ext cx="4641840" cy="3481560"/>
          </a:xfrm>
          <a:prstGeom prst="rect">
            <a:avLst/>
          </a:prstGeom>
          <a:ln w="0">
            <a:noFill/>
          </a:ln>
        </p:spPr>
      </p:sp>
      <p:sp>
        <p:nvSpPr>
          <p:cNvPr id="334"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you’re at home, be sure to </a:t>
            </a:r>
            <a:r>
              <a:rPr b="0" lang="en-US" sz="1200" spc="-1" strike="noStrike">
                <a:solidFill>
                  <a:srgbClr val="000000"/>
                </a:solidFill>
                <a:latin typeface="Calibri"/>
              </a:rPr>
              <a:t>keep your financial records, Social Security card, Medicare card, and health insurance information in a safe place, maybe in a locked cabinet.  Shred papers that have your personal or medical information.  Remember to take mail out of your mailbox every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5"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FCE0-7C38-442F-A9D2-382FC28A44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dentity Theft</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op in a stor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atch your walle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careful with your credit and debit cards.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tell anyone your PIN.</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you shop online:</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Use passwords that are hard for someone to guess.</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respond to emails or other messages that ask for personal inform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put personal information on a computer in a public place, like the library or a coffee shop.</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Shop on secure websites.</a:t>
            </a:r>
            <a:endParaRPr b="0" lang="en-US" sz="30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lvl="1" marL="743040" indent="-28584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information with other businesses?</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ly give your Social Security number if you must. Ask if you can use another kind of identification.</a:t>
            </a: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Do not give your personal information to someone who calls you or emails you.</a:t>
            </a: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ct fas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ake three steps immediately:</a:t>
            </a:r>
            <a:endParaRPr b="0" lang="en-US" sz="28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 Place a fraud alert on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2. Order copies of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3. Create an Identity Theft Repor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1: </a:t>
            </a:r>
            <a:r>
              <a:rPr b="0" lang="en-US" sz="2800" spc="-1" strike="noStrike">
                <a:solidFill>
                  <a:srgbClr val="404040"/>
                </a:solidFill>
                <a:latin typeface="Calibri"/>
              </a:rPr>
              <a:t>Place a fraud alert on your three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Call any one of the three credit reporting companies.  That company must tell the other two.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00-525-6285</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88-397-3742</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r>
              <a:rPr b="0" lang="en-US" sz="2400" spc="-1" strike="noStrike">
                <a:solidFill>
                  <a:srgbClr val="404040"/>
                </a:solidFill>
                <a:latin typeface="Calibri"/>
              </a:rPr>
              <a:t>	</a:t>
            </a:r>
            <a:r>
              <a:rPr b="0" lang="en-US" sz="2400" spc="-1" strike="noStrike">
                <a:solidFill>
                  <a:srgbClr val="404040"/>
                </a:solidFill>
                <a:latin typeface="Calibri"/>
              </a:rPr>
              <a:t>1-800-680-7289</a:t>
            </a:r>
            <a:endParaRPr b="0" lang="en-US" sz="24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ust call all three of the credit reporting companies to get your credit reports.  Identity theft victims can get the reports for free. </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4"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 continued</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x any mistakes in the report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company with affected accounts and explai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ollow up with a let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nclude proof, if you have it</a:t>
            </a:r>
            <a:endParaRPr b="0" lang="en-US" sz="24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6" name=""/>
          <p:cNvSpPr txBox="1"/>
          <p:nvPr/>
        </p:nvSpPr>
        <p:spPr>
          <a:xfrm>
            <a:off x="457200" y="2315880"/>
            <a:ext cx="8229600" cy="431316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04040"/>
                </a:solidFill>
                <a:latin typeface="Calibri"/>
              </a:rPr>
              <a:t>Step 3</a:t>
            </a:r>
            <a:r>
              <a:rPr b="0" lang="en-US" sz="2600" spc="-1" strike="noStrike">
                <a:solidFill>
                  <a:srgbClr val="404040"/>
                </a:solidFill>
                <a:latin typeface="Calibri"/>
              </a:rPr>
              <a:t>: Create an Identity Theft Report</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ubmit a complaint to the FTC</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1-877-438-4338 or </a:t>
            </a:r>
            <a:r>
              <a:rPr b="0" lang="en-US" sz="2200" spc="-1" strike="noStrike" u="sng">
                <a:solidFill>
                  <a:srgbClr val="0000ff"/>
                </a:solidFill>
                <a:uFillTx/>
                <a:latin typeface="Calibri"/>
                <a:hlinkClick r:id="rId1"/>
              </a:rPr>
              <a:t>ftc.gov/complaint</a:t>
            </a:r>
            <a:r>
              <a:rPr b="0" lang="en-US" sz="2200" spc="-1" strike="noStrike">
                <a:solidFill>
                  <a:srgbClr val="404040"/>
                </a:solidFill>
                <a:latin typeface="Calibri"/>
              </a:rPr>
              <a:t> </a:t>
            </a:r>
            <a:endParaRPr b="0" lang="en-US" sz="22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File a police report.  </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Take your FTC complaint to the police st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Get a copy of the police report or the number of the police report</a:t>
            </a:r>
            <a:endParaRPr b="0" lang="en-US" sz="3000" spc="-1" strike="noStrike">
              <a:solidFill>
                <a:srgbClr val="404040"/>
              </a:solidFill>
              <a:latin typeface="Calibri"/>
            </a:endParaRPr>
          </a:p>
          <a:p>
            <a:pPr>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voiding Identity Theft</a:t>
            </a:r>
            <a:endParaRPr b="0" lang="en-US" sz="3600" spc="-1" strike="noStrike">
              <a:solidFill>
                <a:srgbClr val="404040"/>
              </a:solidFill>
              <a:latin typeface="Calibri"/>
            </a:endParaRPr>
          </a:p>
        </p:txBody>
      </p:sp>
      <p:sp>
        <p:nvSpPr>
          <p:cNvPr id="308"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identity thef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someone uses information about you without your permiss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formation can be you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 or bank account number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edical insurance account numb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can a thief do with your informat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y things with your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new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pen a phone, electricity or gas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eal your tax refun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medical car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tend to be you if they are arrested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Why should you care if </a:t>
            </a:r>
            <a:br>
              <a:rPr sz="3200"/>
            </a:br>
            <a:r>
              <a:rPr b="0" lang="en-US" sz="3200" spc="-1" strike="noStrike">
                <a:solidFill>
                  <a:srgbClr val="404040"/>
                </a:solidFill>
                <a:latin typeface="Calibri"/>
              </a:rPr>
              <a:t>someone steals your identity? </a:t>
            </a:r>
            <a:endParaRPr b="0" lang="en-US" sz="32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will be responsible for what the thief does while using your personal information.</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true even if you do not know about the bill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dentity theft can hurt your credi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do you know if someone steals your identity?</a:t>
            </a:r>
            <a:endParaRPr b="0" lang="en-US" sz="32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your bill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atch for your bank account stateme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your mail.</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your credit repor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to get your credit report </a:t>
            </a:r>
            <a:r>
              <a:rPr b="0" lang="en-US" sz="3600" spc="-1" strike="noStrike">
                <a:solidFill>
                  <a:srgbClr val="404040"/>
                </a:solidFill>
                <a:latin typeface="Calibri"/>
              </a:rPr>
              <a:t>	</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a year from each credit reporting compan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es your report have the right inform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you recognize the accounts liste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ook at the Inquiries section to see who has checked your credi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an you protect yourself from identity theft?</a:t>
            </a:r>
            <a:endParaRPr b="0" lang="en-US" sz="32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lower your risk. </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tect your information:</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ho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you shop or do other busin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in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at home?</a:t>
            </a:r>
            <a:endParaRPr b="0" lang="en-US" sz="32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financial records, Social Security card, and health insurance information in a safe place.</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hred papers with personal information.</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 mail out of your mailbox every da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5T18:40:18Z</cp:lastPrinted>
  <dcterms:modified xsi:type="dcterms:W3CDTF">2012-10-03T13:42:14Z</dcterms:modified>
  <cp:revision>102</cp:revision>
  <dc:subject/>
  <dc:title>Your Credit History</dc:title>
</cp:coreProperties>
</file>